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68FF-9859-4AC7-A74B-ED08EB22B3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8ACF-5B1C-4C07-983B-F6EF75BC9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956F-33A7-4AAA-A320-FC8A4DF5F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E555-2DBF-4E7E-85BE-3B4F2B13A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58BC-DA6D-4E72-BD52-43890AB88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88B2-EC2C-4B16-A190-29056FEBB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33C4-923A-48ED-916E-8C89F65DB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7A73-1ED1-4CA9-BB4E-07C8D3D4F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3DB3-4DE1-4EE8-9D79-4C89B7520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5365-CFA0-4381-A11F-DBCA76DB8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9665-CF16-46F2-8001-E452FC06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9AB1-7602-41B9-A294-CE0E5E2F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0C9C-AB2F-46F9-AC35-A917E141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EF9-9BED-40A5-8BA2-6FB73F69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1E11-CB17-49D6-8A24-72F95CC7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BC3A-7D59-469B-8D5D-67E42B10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C60-F47B-4E1A-8511-5201599B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6D96-A166-4B79-8856-DA87B3C2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ACA8-D335-4A3F-9783-D1424755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35F2-A741-4694-B565-DE2644ED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621-224D-4D74-9B3C-41C5FB50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1288-7930-4758-8946-63B06E83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13D1-0A39-4742-AD25-D101A0FC1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ws.jpg"/>
          <p:cNvPicPr/>
          <p:nvPr/>
        </p:nvPicPr>
        <p:blipFill>
          <a:blip r:embed="rId1"/>
          <a:stretch/>
        </p:blipFill>
        <p:spPr>
          <a:xfrm>
            <a:off x="1774800" y="0"/>
            <a:ext cx="559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ws.jpg"/>
          <p:cNvPicPr/>
          <p:nvPr/>
        </p:nvPicPr>
        <p:blipFill>
          <a:blip r:embed="rId1"/>
          <a:srcRect l="5044" t="5554" r="26842" b="88892"/>
          <a:stretch/>
        </p:blipFill>
        <p:spPr>
          <a:xfrm>
            <a:off x="0" y="53352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300320" y="457200"/>
            <a:ext cx="72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ws.jpg"/>
          <p:cNvPicPr/>
          <p:nvPr/>
        </p:nvPicPr>
        <p:blipFill>
          <a:blip r:embed="rId1"/>
          <a:srcRect l="28204" t="10002" r="6401" b="80005"/>
          <a:stretch/>
        </p:blipFill>
        <p:spPr>
          <a:xfrm>
            <a:off x="0" y="2514600"/>
            <a:ext cx="8940960" cy="16765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152280" y="2666880"/>
            <a:ext cx="52578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231840" y="19051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5565960" y="19810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8"/>
          <p:cNvSpPr/>
          <p:nvPr/>
        </p:nvSpPr>
        <p:spPr>
          <a:xfrm>
            <a:off x="5486400" y="3124080"/>
            <a:ext cx="2743200" cy="180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11"/>
          <p:cNvSpPr/>
          <p:nvPr/>
        </p:nvSpPr>
        <p:spPr>
          <a:xfrm>
            <a:off x="228600" y="3581280"/>
            <a:ext cx="8229600" cy="180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13"/>
          <p:cNvSpPr/>
          <p:nvPr/>
        </p:nvSpPr>
        <p:spPr>
          <a:xfrm>
            <a:off x="228600" y="3962520"/>
            <a:ext cx="1066680" cy="144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320040" y="457200"/>
            <a:ext cx="780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Calibri"/>
              </a:rPr>
              <a:t>*Always read directions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6"/>
          <p:cNvSpPr/>
          <p:nvPr/>
        </p:nvSpPr>
        <p:spPr>
          <a:xfrm>
            <a:off x="4194360" y="4724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eft Brace 17"/>
          <p:cNvSpPr/>
          <p:nvPr/>
        </p:nvSpPr>
        <p:spPr>
          <a:xfrm rot="16200000">
            <a:off x="4114800" y="1371240"/>
            <a:ext cx="647640" cy="58294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6560 h 5829480"/>
              <a:gd name="textAreaBottom" fmla="*/ 5812920 h 582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"/>
                  <a:pt x="10800" y="200"/>
                </a:cubicBezTo>
                <a:lnTo>
                  <a:pt x="10800" y="10600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0"/>
                  <a:pt x="10800" y="11000"/>
                </a:cubicBezTo>
                <a:lnTo>
                  <a:pt x="10800" y="21400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ws.jpg"/>
          <p:cNvPicPr/>
          <p:nvPr/>
        </p:nvPicPr>
        <p:blipFill>
          <a:blip r:embed="rId1"/>
          <a:srcRect l="5837" t="35559" r="5837" b="30000"/>
          <a:stretch/>
        </p:blipFill>
        <p:spPr>
          <a:xfrm>
            <a:off x="0" y="609480"/>
            <a:ext cx="914400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ws.jpg"/>
          <p:cNvPicPr/>
          <p:nvPr/>
        </p:nvPicPr>
        <p:blipFill>
          <a:blip r:embed="rId1"/>
          <a:srcRect l="5450" t="68892" r="50959" b="18892"/>
          <a:stretch/>
        </p:blipFill>
        <p:spPr>
          <a:xfrm>
            <a:off x="0" y="533520"/>
            <a:ext cx="8915400" cy="30636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9440" y="1981080"/>
            <a:ext cx="772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  <a:ea typeface="Arial"/>
              </a:rPr>
              <a:t>character goal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ws.jpg"/>
          <p:cNvPicPr/>
          <p:nvPr/>
        </p:nvPicPr>
        <p:blipFill>
          <a:blip r:embed="rId1"/>
          <a:srcRect l="4086" t="80005" r="49595" b="4446"/>
          <a:stretch/>
        </p:blipFill>
        <p:spPr>
          <a:xfrm>
            <a:off x="0" y="685800"/>
            <a:ext cx="8697960" cy="3581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66120" y="2895480"/>
            <a:ext cx="223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</a:rPr>
              <a:t>plo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ws.jpg"/>
          <p:cNvPicPr/>
          <p:nvPr/>
        </p:nvPicPr>
        <p:blipFill>
          <a:blip r:embed="rId1"/>
          <a:srcRect l="48642" t="70005" r="5045" b="20000"/>
          <a:stretch/>
        </p:blipFill>
        <p:spPr>
          <a:xfrm>
            <a:off x="0" y="914400"/>
            <a:ext cx="8915400" cy="236052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-50040" y="1981080"/>
            <a:ext cx="762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</a:rPr>
              <a:t>character trai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ws.jpg"/>
          <p:cNvPicPr/>
          <p:nvPr/>
        </p:nvPicPr>
        <p:blipFill>
          <a:blip r:embed="rId1"/>
          <a:srcRect l="50566" t="80005" r="4318" b="12000"/>
          <a:stretch/>
        </p:blipFill>
        <p:spPr>
          <a:xfrm>
            <a:off x="0" y="1143000"/>
            <a:ext cx="9113760" cy="1981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368280" y="1752480"/>
            <a:ext cx="381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</a:rPr>
              <a:t>settin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ws.jpg"/>
          <p:cNvPicPr/>
          <p:nvPr/>
        </p:nvPicPr>
        <p:blipFill>
          <a:blip r:embed="rId1"/>
          <a:srcRect l="49633" t="88100" r="4633" b="3176"/>
          <a:stretch/>
        </p:blipFill>
        <p:spPr>
          <a:xfrm>
            <a:off x="0" y="1143000"/>
            <a:ext cx="8790120" cy="20574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-507240" y="1447920"/>
            <a:ext cx="762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Freestyle Script"/>
              </a:rPr>
              <a:t>character trai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ws.jpg"/>
          <p:cNvPicPr/>
          <p:nvPr/>
        </p:nvPicPr>
        <p:blipFill>
          <a:blip r:embed="rId2"/>
          <a:srcRect l="28205" t="18892" r="5045" b="64446"/>
          <a:stretch/>
        </p:blipFill>
        <p:spPr>
          <a:xfrm>
            <a:off x="0" y="4343400"/>
            <a:ext cx="75344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2:58:09Z</dcterms:created>
  <dc:creator>.</dc:creator>
  <dc:description/>
  <dc:language>en-US</dc:language>
  <cp:lastModifiedBy>Valued Acer Customer</cp:lastModifiedBy>
  <dcterms:modified xsi:type="dcterms:W3CDTF">2009-09-15T01:41:12Z</dcterms:modified>
  <cp:revision>8</cp:revision>
  <dc:subject/>
  <dc:title>Slide 1</dc:title>
</cp:coreProperties>
</file>