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08A-07A0-499B-85FE-C5993EFF8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C9C7-BC3A-437C-A09D-38B4CC49F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4A4B-ED59-48CF-8ABC-9AB6E541B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368A-8D07-4300-AA2D-1C2611039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4475-5672-40FC-A535-2922EAB41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42C6-C453-4DB3-AA69-C32B0ABC5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B773-7670-4654-9018-62E480C32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694-1F9C-421A-938E-F5262BC21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CF4-60CE-478A-9706-BA406D188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AD83-8E02-464C-8539-AF48000AD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F85-2098-44AF-BFFA-2C6B5167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DFA-8D7A-4B95-B860-8466FD7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C1D-97CD-4903-A7E0-529ABBED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88A-445D-4E78-8734-773294A0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C2C-315D-494E-913F-C22BFA2F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DD7-D3DD-4D23-8646-CA3A67B4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370-C689-4128-8035-4B95DFC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056-CD36-4A4D-B97A-4CFBBB34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805-86B5-4C96-88EA-9B7F43D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FFA-52EE-499D-BA54-5FA8BE1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897-B4EB-4F05-A129-3B18A90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707-E4CC-436B-B463-B99B47C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D80-76F8-46FD-8ED3-138B94871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.jpg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s.jpg"/>
          <p:cNvPicPr/>
          <p:nvPr/>
        </p:nvPicPr>
        <p:blipFill>
          <a:blip r:embed="rId1"/>
          <a:srcRect l="5044" t="5554" r="26842" b="88892"/>
          <a:stretch/>
        </p:blipFill>
        <p:spPr>
          <a:xfrm>
            <a:off x="0" y="5335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00320" y="4572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ws.jpg"/>
          <p:cNvPicPr/>
          <p:nvPr/>
        </p:nvPicPr>
        <p:blipFill>
          <a:blip r:embed="rId1"/>
          <a:srcRect l="28204" t="10002" r="6401" b="80005"/>
          <a:stretch/>
        </p:blipFill>
        <p:spPr>
          <a:xfrm>
            <a:off x="0" y="2514600"/>
            <a:ext cx="89409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52280" y="2666880"/>
            <a:ext cx="5257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1840" y="190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5659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5486400" y="3124080"/>
            <a:ext cx="27432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228600" y="3581280"/>
            <a:ext cx="82296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" y="3962520"/>
            <a:ext cx="1066680" cy="144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20040" y="457200"/>
            <a:ext cx="78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*Always read direction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194360" y="472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eft Brace 17"/>
          <p:cNvSpPr/>
          <p:nvPr/>
        </p:nvSpPr>
        <p:spPr>
          <a:xfrm rot="16200000">
            <a:off x="4114800" y="1371240"/>
            <a:ext cx="647640" cy="58294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5829480"/>
              <a:gd name="textAreaBottom" fmla="*/ 5812920 h 582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s.jpg"/>
          <p:cNvPicPr/>
          <p:nvPr/>
        </p:nvPicPr>
        <p:blipFill>
          <a:blip r:embed="rId1"/>
          <a:srcRect l="5837" t="35559" r="5837" b="30000"/>
          <a:stretch/>
        </p:blipFill>
        <p:spPr>
          <a:xfrm>
            <a:off x="0" y="609480"/>
            <a:ext cx="9144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ws.jpg"/>
          <p:cNvPicPr/>
          <p:nvPr/>
        </p:nvPicPr>
        <p:blipFill>
          <a:blip r:embed="rId1"/>
          <a:srcRect l="5450" t="68892" r="50959" b="18892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9440" y="1981080"/>
            <a:ext cx="772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  <a:ea typeface="Arial"/>
              </a:rPr>
              <a:t>character go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ws.jpg"/>
          <p:cNvPicPr/>
          <p:nvPr/>
        </p:nvPicPr>
        <p:blipFill>
          <a:blip r:embed="rId1"/>
          <a:srcRect l="4086" t="80005" r="49595" b="4446"/>
          <a:stretch/>
        </p:blipFill>
        <p:spPr>
          <a:xfrm>
            <a:off x="0" y="685800"/>
            <a:ext cx="8697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66120" y="2895480"/>
            <a:ext cx="223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pl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s.jpg"/>
          <p:cNvPicPr/>
          <p:nvPr/>
        </p:nvPicPr>
        <p:blipFill>
          <a:blip r:embed="rId1"/>
          <a:srcRect l="48642" t="70005" r="5045" b="20000"/>
          <a:stretch/>
        </p:blipFill>
        <p:spPr>
          <a:xfrm>
            <a:off x="0" y="914400"/>
            <a:ext cx="8915400" cy="2360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-50040" y="198108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ws.jpg"/>
          <p:cNvPicPr/>
          <p:nvPr/>
        </p:nvPicPr>
        <p:blipFill>
          <a:blip r:embed="rId1"/>
          <a:srcRect l="50566" t="80005" r="4318" b="12000"/>
          <a:stretch/>
        </p:blipFill>
        <p:spPr>
          <a:xfrm>
            <a:off x="0" y="1143000"/>
            <a:ext cx="91137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68280" y="1752480"/>
            <a:ext cx="38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ws.jpg"/>
          <p:cNvPicPr/>
          <p:nvPr/>
        </p:nvPicPr>
        <p:blipFill>
          <a:blip r:embed="rId1"/>
          <a:srcRect l="49633" t="88100" r="4633" b="3176"/>
          <a:stretch/>
        </p:blipFill>
        <p:spPr>
          <a:xfrm>
            <a:off x="0" y="1143000"/>
            <a:ext cx="879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-507240" y="144792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58:09Z</dcterms:created>
  <dc:creator>.</dc:creator>
  <dc:description/>
  <dc:language>en-US</dc:language>
  <cp:lastModifiedBy>Valued Acer Customer</cp:lastModifiedBy>
  <dcterms:modified xsi:type="dcterms:W3CDTF">2009-09-15T01:41:12Z</dcterms:modified>
  <cp:revision>8</cp:revision>
  <dc:subject/>
  <dc:title>Slide 1</dc:title>
</cp:coreProperties>
</file>