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BB3-4DEA-46D7-B7A0-7406434D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43F-8E58-40FC-A534-0C9CA35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340-8D71-4C33-B4BC-FE58703E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CB0-8B52-49D8-A2B5-5BCAF625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43C-36CA-4398-8D5A-D124A3EA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E0B-2543-4E97-B303-D55C7A0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08E-86F2-4A4D-B13A-6BDBFC58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5F6-1E27-48F7-9B5E-E52BD06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FDC-95E4-40C3-AB1F-B287250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72B-A77E-49E3-9189-DA17007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468-8BA7-4CBC-90A8-4F3F15B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66A-8E56-425A-90D6-BBC3625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665-A154-4348-BA31-0E077940D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3).jpg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ws (4)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42400" y="763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4800600" y="2286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0"/>
          <p:cNvCxnSpPr/>
          <p:nvPr/>
        </p:nvCxnSpPr>
        <p:spPr>
          <a:xfrm flipH="1">
            <a:off x="3962160" y="1752480"/>
            <a:ext cx="9151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H="1">
            <a:off x="3733560" y="3048120"/>
            <a:ext cx="12196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/>
          <p:nvPr/>
        </p:nvCxnSpPr>
        <p:spPr>
          <a:xfrm flipH="1">
            <a:off x="3657240" y="4190040"/>
            <a:ext cx="129600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" name="Oval 17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n 20"/>
          <p:cNvSpPr/>
          <p:nvPr/>
        </p:nvSpPr>
        <p:spPr>
          <a:xfrm>
            <a:off x="4800600" y="5029200"/>
            <a:ext cx="15228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1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2"/>
          <p:cNvCxnSpPr/>
          <p:nvPr/>
        </p:nvCxnSpPr>
        <p:spPr>
          <a:xfrm flipH="1" flipV="1">
            <a:off x="2437560" y="3580920"/>
            <a:ext cx="251532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9:10:43Z</dcterms:created>
  <dc:creator>.</dc:creator>
  <dc:description/>
  <dc:language>en-US</dc:language>
  <cp:lastModifiedBy>.</cp:lastModifiedBy>
  <dcterms:modified xsi:type="dcterms:W3CDTF">2008-09-07T19:27:42Z</dcterms:modified>
  <cp:revision>2</cp:revision>
  <dc:subject/>
  <dc:title>Slide 1</dc:title>
</cp:coreProperties>
</file>