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whoosh.wav" ContentType="audio/x-wav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7D8-FD81-4ACF-9482-56978303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343-A3FD-4244-A1D2-633A0031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994-B4E9-4473-BEFC-9EBED20F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3D6-588D-491E-BD04-A833BB6A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772-B875-4E2E-A294-734B45C5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35E-F05A-4F7E-B709-6A9E1443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56B-3D91-492A-9F0A-09CC649F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258-3A35-4CC3-B2D4-6ADDC653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58D-10C3-4B10-87E8-8A2D152D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621-8BA4-45C6-A272-2EBE793A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9DF-8D50-4285-A1FE-F3CE819F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65E-A05C-4D10-8C05-76F5A11E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CB9B-0A22-4C2D-8416-DEE8B3B5A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laser.wav" TargetMode="External"/><Relationship Id="rId3" Type="http://schemas.microsoft.com/office/2007/relationships/media" Target="file:///usr/lib/libreoffice/share/gallery/sounds/laser.wav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7).jpg"/>
          <p:cNvPicPr/>
          <p:nvPr/>
        </p:nvPicPr>
        <p:blipFill>
          <a:blip r:embed="rId1"/>
          <a:srcRect l="7389" t="25557" r="28404" b="61113"/>
          <a:stretch/>
        </p:blipFill>
        <p:spPr>
          <a:xfrm>
            <a:off x="0" y="1066680"/>
            <a:ext cx="9080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ws (7).jpg"/>
          <p:cNvPicPr/>
          <p:nvPr/>
        </p:nvPicPr>
        <p:blipFill>
          <a:blip r:embed="rId1"/>
          <a:stretch/>
        </p:blipFill>
        <p:spPr>
          <a:xfrm>
            <a:off x="1308240" y="0"/>
            <a:ext cx="652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ws (7).jpg"/>
          <p:cNvPicPr/>
          <p:nvPr/>
        </p:nvPicPr>
        <p:blipFill>
          <a:blip r:embed="rId1"/>
          <a:srcRect l="5642" t="38892" r="16147" b="35556"/>
          <a:stretch/>
        </p:blipFill>
        <p:spPr>
          <a:xfrm>
            <a:off x="0" y="990720"/>
            <a:ext cx="8879040" cy="3047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902680" y="1143000"/>
            <a:ext cx="24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ador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918520" y="213372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usu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028320" y="3200400"/>
            <a:ext cx="254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terrib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105520" y="1371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17220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25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192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ws (7).jpg"/>
          <p:cNvPicPr/>
          <p:nvPr/>
        </p:nvPicPr>
        <p:blipFill>
          <a:blip r:embed="rId1"/>
          <a:srcRect l="6805" t="64449" r="25488" b="10003"/>
          <a:stretch/>
        </p:blipFill>
        <p:spPr>
          <a:xfrm>
            <a:off x="152280" y="1447920"/>
            <a:ext cx="8723520" cy="3458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4860720" y="1676520"/>
            <a:ext cx="256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quick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997520" y="2743200"/>
            <a:ext cx="17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sp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510080" y="3962520"/>
            <a:ext cx="23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fool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 flipH="1">
            <a:off x="1066680" y="1523880"/>
            <a:ext cx="99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homer_blah2.wav" descr=""/>
          <p:cNvPicPr/>
          <p:nvPr/>
        </p:nvPicPr>
        <p:blipFill>
          <a:blip r:embed="rId2"/>
          <a:stretch/>
        </p:blipFill>
        <p:spPr>
          <a:xfrm>
            <a:off x="6477120" y="4495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613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3:42:35Z</dcterms:created>
  <dc:creator>.</dc:creator>
  <dc:description/>
  <dc:language>en-US</dc:language>
  <cp:lastModifiedBy>.</cp:lastModifiedBy>
  <dcterms:modified xsi:type="dcterms:W3CDTF">2008-09-04T17:25:59Z</dcterms:modified>
  <cp:revision>9</cp:revision>
  <dc:subject/>
  <dc:title>Slide 1</dc:title>
</cp:coreProperties>
</file>