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whoosh.wav" ContentType="audio/x-wav"/>
  <Override PartName="/ppt/media/laser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77CB-B235-4734-BBB7-B80E28CDE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24EC-8EB0-4137-A586-078B7CB1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747D-8BE2-4C5C-B0FF-86F833921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9529-0E88-42B0-B991-5BFC3E72C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FA44-4B8A-4402-BC8E-C7019980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F83D-F5CE-401C-88C6-845A1DB8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9A75-204B-4F2A-9BF2-04EB3EE0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50D7-194F-4C79-A85E-CB5BCA31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E6F2-C390-4074-B319-7CA98825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D7A1-BFB4-494A-9606-2D325EC4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B438-B767-48D6-8F26-520CF5C7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D10A-FF96-43BC-BFB9-26F6EF3D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2079-1CD5-44DF-820A-8E76F748F7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usr/lib/libreoffice/share/gallery/sounds/laser.wav" TargetMode="External"/><Relationship Id="rId3" Type="http://schemas.microsoft.com/office/2007/relationships/media" Target="file:///usr/lib/libreoffice/share/gallery/sounds/laser.wav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audio" Target="../media/whoosh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ws (7).jpg"/>
          <p:cNvPicPr/>
          <p:nvPr/>
        </p:nvPicPr>
        <p:blipFill>
          <a:blip r:embed="rId1"/>
          <a:srcRect l="7389" t="25557" r="28404" b="61113"/>
          <a:stretch/>
        </p:blipFill>
        <p:spPr>
          <a:xfrm>
            <a:off x="0" y="1066680"/>
            <a:ext cx="90806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ws (7).jpg"/>
          <p:cNvPicPr/>
          <p:nvPr/>
        </p:nvPicPr>
        <p:blipFill>
          <a:blip r:embed="rId1"/>
          <a:stretch/>
        </p:blipFill>
        <p:spPr>
          <a:xfrm>
            <a:off x="1308240" y="0"/>
            <a:ext cx="652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ws (7).jpg"/>
          <p:cNvPicPr/>
          <p:nvPr/>
        </p:nvPicPr>
        <p:blipFill>
          <a:blip r:embed="rId1"/>
          <a:srcRect l="5642" t="38892" r="16147" b="35556"/>
          <a:stretch/>
        </p:blipFill>
        <p:spPr>
          <a:xfrm>
            <a:off x="0" y="990720"/>
            <a:ext cx="8879040" cy="304776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2902680" y="1143000"/>
            <a:ext cx="249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Freestyle Script"/>
              </a:rPr>
              <a:t>adore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2918520" y="2133720"/>
            <a:ext cx="19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Freestyle Script"/>
              </a:rPr>
              <a:t>usu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3028320" y="3200400"/>
            <a:ext cx="254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Freestyle Script"/>
              </a:rPr>
              <a:t>terrib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105520" y="1371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172200" y="312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3253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1927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7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ws (7).jpg"/>
          <p:cNvPicPr/>
          <p:nvPr/>
        </p:nvPicPr>
        <p:blipFill>
          <a:blip r:embed="rId1"/>
          <a:srcRect l="6805" t="64449" r="25488" b="10003"/>
          <a:stretch/>
        </p:blipFill>
        <p:spPr>
          <a:xfrm>
            <a:off x="152280" y="1447920"/>
            <a:ext cx="8723520" cy="345888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4860720" y="1676520"/>
            <a:ext cx="256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Freestyle Script"/>
              </a:rPr>
              <a:t>quick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4997520" y="2743200"/>
            <a:ext cx="174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Freestyle Script"/>
              </a:rPr>
              <a:t>spe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4510080" y="3962520"/>
            <a:ext cx="235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Freestyle Script"/>
              </a:rPr>
              <a:t>foolish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6"/>
          <p:cNvSpPr/>
          <p:nvPr/>
        </p:nvSpPr>
        <p:spPr>
          <a:xfrm flipH="1">
            <a:off x="1066680" y="1523880"/>
            <a:ext cx="990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homer_blah2.wav" descr=""/>
          <p:cNvPicPr/>
          <p:nvPr/>
        </p:nvPicPr>
        <p:blipFill>
          <a:blip r:embed="rId2"/>
          <a:stretch/>
        </p:blipFill>
        <p:spPr>
          <a:xfrm>
            <a:off x="6477120" y="44956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6136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3:42:35Z</dcterms:created>
  <dc:creator>.</dc:creator>
  <dc:description/>
  <dc:language>en-US</dc:language>
  <cp:lastModifiedBy>.</cp:lastModifiedBy>
  <dcterms:modified xsi:type="dcterms:W3CDTF">2008-09-04T17:25:59Z</dcterms:modified>
  <cp:revision>9</cp:revision>
  <dc:subject/>
  <dc:title>Slide 1</dc:title>
</cp:coreProperties>
</file>