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whoosh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76C-14B0-4E0E-9C93-1CFB2BAF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960-E9AF-4DC6-AA06-034D30AE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E33-80AF-4F6E-B89E-BEDCFF3B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17C-326F-4A9A-AD05-5CAE01A3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370-7474-4FF9-8016-E5BDFBE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CB3-0CC9-4966-BEEC-3E17B47D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5EC-7A09-46AC-ADA0-012AAEE8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D86-B7BA-47AA-9BE2-DB0B6D72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641-660A-4157-BF1C-E7F33967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8DA-9153-4504-8937-0FA3EC2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B45-DB22-4956-A847-CBF14D7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84F-1891-4BFB-AAD7-0009DA1C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7DF8-E230-49B6-BEBE-9F41959AB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7).jpg"/>
          <p:cNvPicPr/>
          <p:nvPr/>
        </p:nvPicPr>
        <p:blipFill>
          <a:blip r:embed="rId1"/>
          <a:srcRect l="7389" t="25557" r="28404" b="61113"/>
          <a:stretch/>
        </p:blipFill>
        <p:spPr>
          <a:xfrm>
            <a:off x="0" y="1066680"/>
            <a:ext cx="9080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ws (7).jpg"/>
          <p:cNvPicPr/>
          <p:nvPr/>
        </p:nvPicPr>
        <p:blipFill>
          <a:blip r:embed="rId1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ws (7).jpg"/>
          <p:cNvPicPr/>
          <p:nvPr/>
        </p:nvPicPr>
        <p:blipFill>
          <a:blip r:embed="rId1"/>
          <a:srcRect l="5642" t="38892" r="16147" b="35556"/>
          <a:stretch/>
        </p:blipFill>
        <p:spPr>
          <a:xfrm>
            <a:off x="0" y="990720"/>
            <a:ext cx="887904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902680" y="114300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ador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18520" y="213372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usu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28320" y="320040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terrib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1055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172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25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192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ws (7).jpg"/>
          <p:cNvPicPr/>
          <p:nvPr/>
        </p:nvPicPr>
        <p:blipFill>
          <a:blip r:embed="rId1"/>
          <a:srcRect l="6805" t="64449" r="25488" b="10003"/>
          <a:stretch/>
        </p:blipFill>
        <p:spPr>
          <a:xfrm>
            <a:off x="152280" y="1447920"/>
            <a:ext cx="8723520" cy="3458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860720" y="1676520"/>
            <a:ext cx="25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quick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997520" y="274320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sp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10080" y="396252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fool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 flipH="1">
            <a:off x="1066680" y="1523880"/>
            <a:ext cx="99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homer_blah2.wav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13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42:35Z</dcterms:created>
  <dc:creator>.</dc:creator>
  <dc:description/>
  <dc:language>en-US</dc:language>
  <cp:lastModifiedBy>.</cp:lastModifiedBy>
  <dcterms:modified xsi:type="dcterms:W3CDTF">2008-09-04T17:25:59Z</dcterms:modified>
  <cp:revision>9</cp:revision>
  <dc:subject/>
  <dc:title>Slide 1</dc:title>
</cp:coreProperties>
</file>