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0B4-5A59-476E-B4FE-88960F30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012-CBD8-4D2C-9885-11C34554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4B8-E62E-4DDC-9964-FD319E4C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1D8-5C09-4E92-88AD-BB40E208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26A-2145-496B-A8AC-F69DE07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9DA-D88F-48B0-A865-1D95E4E8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C23-54FC-41E1-B9C3-37991252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38F-5D1F-43CB-A1D1-77B4632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126-B7D7-4345-ACEC-21D0199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34F-E2D8-482F-96FC-9C2A6CC8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442-83F1-4CB6-85C1-A7138AA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AEC-326E-4E73-9D70-F9147CF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CC59-4BD9-42F7-8BCF-473755DE2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7).jpg"/>
          <p:cNvPicPr/>
          <p:nvPr/>
        </p:nvPicPr>
        <p:blipFill>
          <a:blip r:embed="rId1"/>
          <a:srcRect l="7389" t="25557" r="28404" b="61113"/>
          <a:stretch/>
        </p:blipFill>
        <p:spPr>
          <a:xfrm>
            <a:off x="0" y="1066680"/>
            <a:ext cx="9080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ws (7).jpg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ws (7).jpg"/>
          <p:cNvPicPr/>
          <p:nvPr/>
        </p:nvPicPr>
        <p:blipFill>
          <a:blip r:embed="rId1"/>
          <a:srcRect l="5642" t="38892" r="16147" b="35556"/>
          <a:stretch/>
        </p:blipFill>
        <p:spPr>
          <a:xfrm>
            <a:off x="0" y="990720"/>
            <a:ext cx="887904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902680" y="114300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ador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18520" y="21337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usu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28320" y="320040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terrib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1055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2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9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ws (7).jpg"/>
          <p:cNvPicPr/>
          <p:nvPr/>
        </p:nvPicPr>
        <p:blipFill>
          <a:blip r:embed="rId1"/>
          <a:srcRect l="6805" t="64449" r="25488" b="10003"/>
          <a:stretch/>
        </p:blipFill>
        <p:spPr>
          <a:xfrm>
            <a:off x="152280" y="1447920"/>
            <a:ext cx="8723520" cy="345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860720" y="1676520"/>
            <a:ext cx="25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qui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997520" y="274320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sp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10080" y="396252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foo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 flipH="1">
            <a:off x="1066680" y="15238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homer_blah2.wav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1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42:35Z</dcterms:created>
  <dc:creator>.</dc:creator>
  <dc:description/>
  <dc:language>en-US</dc:language>
  <cp:lastModifiedBy>.</cp:lastModifiedBy>
  <dcterms:modified xsi:type="dcterms:W3CDTF">2008-09-04T17:25:59Z</dcterms:modified>
  <cp:revision>9</cp:revision>
  <dc:subject/>
  <dc:title>Slide 1</dc:title>
</cp:coreProperties>
</file>