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00A-BF05-48FF-9946-82118510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F97-7E75-4DAF-B970-5DBA9BF8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27E-C4F8-4D17-B948-23C41A39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C40-51C1-488F-8FB2-DC46BCE1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3CE-BD28-49AD-B7BF-E627A74E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E83-2121-48EA-A7B8-D8831809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EE8-2395-4528-9E29-E6CA17D2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4CC-F8E2-4B27-AFD3-82DB94E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9D5-4621-4C7C-BFCB-67083E0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7B1-D93B-49B3-BD43-6659C370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A2E-3C92-4EA6-850E-2B6B557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D3D-18FC-4715-9E08-26C953C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56EA-F0A5-4E0E-90C1-2D8298A82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414" b="41812"/>
          <a:stretch/>
        </p:blipFill>
        <p:spPr>
          <a:xfrm>
            <a:off x="685800" y="0"/>
            <a:ext cx="7010280" cy="635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1522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24" t="58736" r="18779" b="6969"/>
          <a:stretch/>
        </p:blipFill>
        <p:spPr>
          <a:xfrm>
            <a:off x="0" y="1066680"/>
            <a:ext cx="914400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480" y="380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2:51Z</dcterms:created>
  <dc:creator>.</dc:creator>
  <dc:description/>
  <dc:language>en-US</dc:language>
  <cp:lastModifiedBy>.</cp:lastModifiedBy>
  <dcterms:modified xsi:type="dcterms:W3CDTF">2008-09-05T11:58:03Z</dcterms:modified>
  <cp:revision>1</cp:revision>
  <dc:subject/>
  <dc:title>Slide 1</dc:title>
</cp:coreProperties>
</file>