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1D3-799A-41CF-AB1B-8EBC09FE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E07-6CF0-4F20-8092-CA945749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A5D1-5A42-40F2-9047-1ADC9741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5C5-287F-4A5B-98D7-1F7F0E8D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D03-9DFB-45E8-BD97-7439BA6B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3C0C-DAEB-4B4A-9789-ABF3F899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DD2-9425-4090-B389-3F39EFC3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4AD5-18A2-4EA4-AF4E-42B21259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27F-045D-42B9-973F-E82D1497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D4DE-905F-4905-B16C-6006CACF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EE31-1FD6-460D-AD69-64BD533B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082C-D244-4862-9054-B28243C7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12C6-4D24-4708-98FB-8E3659522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13414" b="41812"/>
          <a:stretch/>
        </p:blipFill>
        <p:spPr>
          <a:xfrm>
            <a:off x="685800" y="0"/>
            <a:ext cx="7010280" cy="6353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64160" y="1522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1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4024" t="58736" r="18779" b="6969"/>
          <a:stretch/>
        </p:blipFill>
        <p:spPr>
          <a:xfrm>
            <a:off x="0" y="1066680"/>
            <a:ext cx="914400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97480" y="3808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2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1:52:51Z</dcterms:created>
  <dc:creator>.</dc:creator>
  <dc:description/>
  <dc:language>en-US</dc:language>
  <cp:lastModifiedBy>.</cp:lastModifiedBy>
  <dcterms:modified xsi:type="dcterms:W3CDTF">2008-09-05T11:58:03Z</dcterms:modified>
  <cp:revision>1</cp:revision>
  <dc:subject/>
  <dc:title>Slide 1</dc:title>
</cp:coreProperties>
</file>