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054-E0FE-4E1E-8321-05A33631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167-E263-4E47-90D4-CC13B69F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FD4-5EC4-4C17-B669-6B5ED671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F93-C548-46DD-83C2-E5D92FDC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A4E-27B2-48B3-8197-ECC04EA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D76-4AE0-44D8-B4A5-583BFBBA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549-E160-4D27-8C50-C64AECA9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5E1-5E6B-4EA4-93C0-61E435C7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272-8C64-47E9-9C68-C81868DC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235-60EC-465A-944A-BAB7ABA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41B-CCFC-49B5-8C45-30156732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0A1-6629-414C-A29B-35D5D0D8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6B5D-849A-4322-B061-3F3292AC5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3414" b="41812"/>
          <a:stretch/>
        </p:blipFill>
        <p:spPr>
          <a:xfrm>
            <a:off x="685800" y="0"/>
            <a:ext cx="7010280" cy="635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160" y="1522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1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24" t="58736" r="18779" b="6969"/>
          <a:stretch/>
        </p:blipFill>
        <p:spPr>
          <a:xfrm>
            <a:off x="0" y="1066680"/>
            <a:ext cx="914400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97480" y="380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2:51Z</dcterms:created>
  <dc:creator>.</dc:creator>
  <dc:description/>
  <dc:language>en-US</dc:language>
  <cp:lastModifiedBy>.</cp:lastModifiedBy>
  <dcterms:modified xsi:type="dcterms:W3CDTF">2008-09-05T11:58:03Z</dcterms:modified>
  <cp:revision>1</cp:revision>
  <dc:subject/>
  <dc:title>Slide 1</dc:title>
</cp:coreProperties>
</file>