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6F4D-6EC1-4702-8129-FC0EA321F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36D-2769-400A-9E12-212E29F12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98D5-0B7E-4A20-A00D-C2C9E7E64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C94-7E2F-4BBB-96E0-8D3119D1B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3E7-BD09-48ED-ACAC-029DAEFF0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3732-BE40-4189-8D89-08C3FC99C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D5F5-8FA8-418B-93AB-145C66BFD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0F6E-FD27-433B-80FB-0945BD6E3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FD4-FFF7-484C-8F8D-6B5467D6D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0CC8-A91C-4D62-9574-665BB349E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0A4-2C63-49C2-A450-4E62C815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512-1050-45C4-A408-428FB8AF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ECF-0FA0-4DE7-A8A2-CEC81BEF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C45-6B9F-4149-85CA-324B4E46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81D-0E05-4F54-8981-25B914A0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B8A-1E35-4CD5-B697-DFDB2CBA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F8F-A782-4DA4-A4E5-52D7FE25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FCA-73DD-4E0A-AA9C-E6853EF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473-8B65-4E43-B91A-2B104469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477-89AF-4960-8753-A0B3E485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D59-006C-4778-8B8C-0146E11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CF2-F238-4F2C-BA2A-C562376A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2B1-390D-46DD-99C0-A91CF0332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.jpg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s.jpg"/>
          <p:cNvPicPr/>
          <p:nvPr/>
        </p:nvPicPr>
        <p:blipFill>
          <a:blip r:embed="rId1"/>
          <a:srcRect l="5044" t="5554" r="26842" b="88892"/>
          <a:stretch/>
        </p:blipFill>
        <p:spPr>
          <a:xfrm>
            <a:off x="0" y="5335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00320" y="4572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ws.jpg"/>
          <p:cNvPicPr/>
          <p:nvPr/>
        </p:nvPicPr>
        <p:blipFill>
          <a:blip r:embed="rId1"/>
          <a:srcRect l="28204" t="10002" r="6401" b="80005"/>
          <a:stretch/>
        </p:blipFill>
        <p:spPr>
          <a:xfrm>
            <a:off x="0" y="2514600"/>
            <a:ext cx="89409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52280" y="2666880"/>
            <a:ext cx="5257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1840" y="190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5659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5486400" y="3124080"/>
            <a:ext cx="27432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228600" y="3581280"/>
            <a:ext cx="82296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" y="3962520"/>
            <a:ext cx="1066680" cy="144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20040" y="457200"/>
            <a:ext cx="78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*Always read direction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194360" y="472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eft Brace 17"/>
          <p:cNvSpPr/>
          <p:nvPr/>
        </p:nvSpPr>
        <p:spPr>
          <a:xfrm rot="16200000">
            <a:off x="4114800" y="1371240"/>
            <a:ext cx="647640" cy="58294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5829480"/>
              <a:gd name="textAreaBottom" fmla="*/ 5812920 h 582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s.jpg"/>
          <p:cNvPicPr/>
          <p:nvPr/>
        </p:nvPicPr>
        <p:blipFill>
          <a:blip r:embed="rId1"/>
          <a:srcRect l="5837" t="35559" r="5837" b="30000"/>
          <a:stretch/>
        </p:blipFill>
        <p:spPr>
          <a:xfrm>
            <a:off x="0" y="609480"/>
            <a:ext cx="9144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ws.jpg"/>
          <p:cNvPicPr/>
          <p:nvPr/>
        </p:nvPicPr>
        <p:blipFill>
          <a:blip r:embed="rId1"/>
          <a:srcRect l="5450" t="68892" r="50959" b="18892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9440" y="1981080"/>
            <a:ext cx="772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  <a:ea typeface="Arial"/>
              </a:rPr>
              <a:t>character go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ws.jpg"/>
          <p:cNvPicPr/>
          <p:nvPr/>
        </p:nvPicPr>
        <p:blipFill>
          <a:blip r:embed="rId1"/>
          <a:srcRect l="4086" t="80005" r="49595" b="4446"/>
          <a:stretch/>
        </p:blipFill>
        <p:spPr>
          <a:xfrm>
            <a:off x="0" y="685800"/>
            <a:ext cx="8697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66120" y="2895480"/>
            <a:ext cx="223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pl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s.jpg"/>
          <p:cNvPicPr/>
          <p:nvPr/>
        </p:nvPicPr>
        <p:blipFill>
          <a:blip r:embed="rId1"/>
          <a:srcRect l="48642" t="70005" r="5045" b="20000"/>
          <a:stretch/>
        </p:blipFill>
        <p:spPr>
          <a:xfrm>
            <a:off x="0" y="914400"/>
            <a:ext cx="8915400" cy="2360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-50040" y="198108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ws.jpg"/>
          <p:cNvPicPr/>
          <p:nvPr/>
        </p:nvPicPr>
        <p:blipFill>
          <a:blip r:embed="rId1"/>
          <a:srcRect l="50566" t="80005" r="4318" b="12000"/>
          <a:stretch/>
        </p:blipFill>
        <p:spPr>
          <a:xfrm>
            <a:off x="0" y="1143000"/>
            <a:ext cx="91137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68280" y="1752480"/>
            <a:ext cx="38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ws.jpg"/>
          <p:cNvPicPr/>
          <p:nvPr/>
        </p:nvPicPr>
        <p:blipFill>
          <a:blip r:embed="rId1"/>
          <a:srcRect l="49633" t="88100" r="4633" b="3176"/>
          <a:stretch/>
        </p:blipFill>
        <p:spPr>
          <a:xfrm>
            <a:off x="0" y="1143000"/>
            <a:ext cx="879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-507240" y="144792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58:09Z</dcterms:created>
  <dc:creator>.</dc:creator>
  <dc:description/>
  <dc:language>en-US</dc:language>
  <cp:lastModifiedBy>Valued Acer Customer</cp:lastModifiedBy>
  <dcterms:modified xsi:type="dcterms:W3CDTF">2009-09-15T01:41:12Z</dcterms:modified>
  <cp:revision>8</cp:revision>
  <dc:subject/>
  <dc:title>Slide 1</dc:title>
</cp:coreProperties>
</file>