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whoosh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B24-E795-4F65-948E-617ABE40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748-B09A-47E4-8EB8-E779439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07D-F79C-4B1A-81A3-018D49E3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32C-96CE-42E3-9B2C-20BA8466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2D4-D1BA-42D8-B457-2AE8E59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BFB-F3B7-4622-B93B-74F0A071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07B-0D77-4819-9F57-AFE874A9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A5E-CA15-42B6-968B-2DF9D8F1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372-1135-48AF-BE48-38AD03D5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9F0-7A68-43AD-97D4-879A778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1B1-DD10-4B18-AD09-A5F4E06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638-79BD-4185-B094-B5FFCAD6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A83-EE2C-4394-AB27-0695184C2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s (7).jpg"/>
          <p:cNvPicPr/>
          <p:nvPr/>
        </p:nvPicPr>
        <p:blipFill>
          <a:blip r:embed="rId1"/>
          <a:srcRect l="7389" t="25557" r="28404" b="61113"/>
          <a:stretch/>
        </p:blipFill>
        <p:spPr>
          <a:xfrm>
            <a:off x="0" y="1066680"/>
            <a:ext cx="9080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ws (7)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ws (7).jpg"/>
          <p:cNvPicPr/>
          <p:nvPr/>
        </p:nvPicPr>
        <p:blipFill>
          <a:blip r:embed="rId1"/>
          <a:srcRect l="5642" t="38892" r="16147" b="35556"/>
          <a:stretch/>
        </p:blipFill>
        <p:spPr>
          <a:xfrm>
            <a:off x="0" y="990720"/>
            <a:ext cx="887904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902680" y="114300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ador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18520" y="21337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usu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028320" y="320040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terrib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1055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172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2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9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ws (7).jpg"/>
          <p:cNvPicPr/>
          <p:nvPr/>
        </p:nvPicPr>
        <p:blipFill>
          <a:blip r:embed="rId1"/>
          <a:srcRect l="6805" t="64449" r="25488" b="10003"/>
          <a:stretch/>
        </p:blipFill>
        <p:spPr>
          <a:xfrm>
            <a:off x="152280" y="1447920"/>
            <a:ext cx="8723520" cy="3458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860720" y="167652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qui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997520" y="274320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sp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510080" y="396252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Freestyle Script"/>
              </a:rPr>
              <a:t>fool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 flipH="1">
            <a:off x="1066680" y="1523880"/>
            <a:ext cx="99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homer_blah2.wav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3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3:42:35Z</dcterms:created>
  <dc:creator>.</dc:creator>
  <dc:description/>
  <dc:language>en-US</dc:language>
  <cp:lastModifiedBy>.</cp:lastModifiedBy>
  <dcterms:modified xsi:type="dcterms:W3CDTF">2008-09-04T17:25:59Z</dcterms:modified>
  <cp:revision>9</cp:revision>
  <dc:subject/>
  <dc:title>Slide 1</dc:title>
</cp:coreProperties>
</file>