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478-2B65-445D-9DD9-98308A8C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06A-C7D8-44C4-ADCE-663032D0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4A7-DD7D-4438-A4FD-FA144D29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EE6-B1F7-4075-9484-BDFD162E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009-68DD-4FB2-886A-F5B9869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AD4-1ABD-4721-99D7-FD1FF00A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AE6-4190-413E-BC63-1240ACF1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991-68C5-4AE5-BEB7-81EACB3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841-B96C-43B2-91B5-46CB4BD8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B07-F590-48F6-A6FA-B764122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F14-CB11-4070-9995-E856F16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0CE-B4C7-4EB2-8B2F-16A1F355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3F0-64D1-4862-B45F-A6BBB5F2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414" b="41812"/>
          <a:stretch/>
        </p:blipFill>
        <p:spPr>
          <a:xfrm>
            <a:off x="685800" y="0"/>
            <a:ext cx="7010280" cy="635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160" y="1522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24" t="58736" r="18779" b="6969"/>
          <a:stretch/>
        </p:blipFill>
        <p:spPr>
          <a:xfrm>
            <a:off x="0" y="1066680"/>
            <a:ext cx="914400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7480" y="380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2:51Z</dcterms:created>
  <dc:creator>.</dc:creator>
  <dc:description/>
  <dc:language>en-US</dc:language>
  <cp:lastModifiedBy>.</cp:lastModifiedBy>
  <dcterms:modified xsi:type="dcterms:W3CDTF">2008-09-05T11:58:03Z</dcterms:modified>
  <cp:revision>1</cp:revision>
  <dc:subject/>
  <dc:title>Slide 1</dc:title>
</cp:coreProperties>
</file>