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B470-52AA-4365-89E7-6DBA8C299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C9C9-32EF-43EB-AABF-95F92AC2E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5EAD-D2C7-4AA9-89C0-7E9029F62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0417-DD42-4A42-B99A-37336CABC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E1D7-16C4-4E15-94ED-2B544401B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2159-5A83-4934-9E65-E1D734D0E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21F3-C457-4455-9BFE-D5D2C446B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C8B1-D7F6-455A-A130-100E24363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D9E3-79CE-4B2B-B1BF-5F6F45D44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34E6-C2DE-45A4-B6E5-2B7E36EE8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3B1A-58A9-44AD-8F0A-1C145E8DD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5DB6-AD8E-4BCB-A5C9-666D69756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AE18-11D7-4792-9CE0-0922531B0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0E0-EBED-4A7F-995E-A1EFB363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554-A128-4A55-A5A9-4830B67A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7C9-AB73-4FD0-BEAC-A3B0391C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3AA-76E0-4AA6-812C-CF887F6F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9D5-D5E2-4F98-A760-DCBF1B69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974-01E8-4004-B4BF-AD514232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8C8-B267-4A6B-9EB7-C17E8EFA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5B8-170C-4188-8391-F39E2ECB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969-084F-40C6-B3BA-FF43E127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03E-879A-43F1-8343-0A5A500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5F3-0618-431B-B7D7-B4A54FF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813-FBCB-4B3B-B9F5-B0A8E74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9874-AFDE-4C7F-B66D-5200FC0F6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can_Pic0001.jpg"/>
          <p:cNvPicPr/>
          <p:nvPr/>
        </p:nvPicPr>
        <p:blipFill>
          <a:blip r:embed="rId1"/>
          <a:srcRect l="2629" t="0" r="4160" b="8891"/>
          <a:stretch/>
        </p:blipFill>
        <p:spPr>
          <a:xfrm>
            <a:off x="2057400" y="0"/>
            <a:ext cx="51055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everyday math journal 1.2 p7.jpg"/>
          <p:cNvPicPr/>
          <p:nvPr/>
        </p:nvPicPr>
        <p:blipFill>
          <a:blip r:embed="rId1"/>
          <a:srcRect l="8026" t="11773" r="23558" b="72674"/>
          <a:stretch/>
        </p:blipFill>
        <p:spPr>
          <a:xfrm>
            <a:off x="0" y="533520"/>
            <a:ext cx="9144000" cy="2859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8948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4196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199400" y="54144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6860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52144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178880" y="11509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630720" y="18367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4656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42944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18120" y="25225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4530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42818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everyday math journal 1.2 p7.jpg"/>
          <p:cNvPicPr/>
          <p:nvPr/>
        </p:nvPicPr>
        <p:blipFill>
          <a:blip r:embed="rId1"/>
          <a:srcRect l="5178" t="27328" r="53629" b="61835"/>
          <a:stretch/>
        </p:blipFill>
        <p:spPr>
          <a:xfrm>
            <a:off x="0" y="0"/>
            <a:ext cx="800100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everyday math journal 1.2 p6.jpg"/>
          <p:cNvPicPr/>
          <p:nvPr/>
        </p:nvPicPr>
        <p:blipFill>
          <a:blip r:embed="rId2"/>
          <a:srcRect l="46875" t="52402" r="31226" b="32761"/>
          <a:stretch/>
        </p:blipFill>
        <p:spPr>
          <a:xfrm>
            <a:off x="210960" y="3144960"/>
            <a:ext cx="3903840" cy="363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veryday math journal 1.2 p6.jpg"/>
          <p:cNvPicPr/>
          <p:nvPr/>
        </p:nvPicPr>
        <p:blipFill>
          <a:blip r:embed="rId3"/>
          <a:srcRect l="45652" t="67886" r="31346" b="17779"/>
          <a:stretch/>
        </p:blipFill>
        <p:spPr>
          <a:xfrm>
            <a:off x="4876920" y="312408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2901240" y="82872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901240" y="175248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988640" y="23623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it #4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can_Pic0004.jpg"/>
          <p:cNvPicPr/>
          <p:nvPr/>
        </p:nvPicPr>
        <p:blipFill>
          <a:blip r:embed="rId1"/>
          <a:srcRect l="5646" t="3082" r="61098" b="81723"/>
          <a:stretch/>
        </p:blipFill>
        <p:spPr>
          <a:xfrm>
            <a:off x="0" y="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can_Pic0001.jpg"/>
          <p:cNvPicPr/>
          <p:nvPr/>
        </p:nvPicPr>
        <p:blipFill>
          <a:blip r:embed="rId1"/>
          <a:srcRect l="3246" t="37918" r="46920" b="43796"/>
          <a:stretch/>
        </p:blipFill>
        <p:spPr>
          <a:xfrm>
            <a:off x="0" y="609480"/>
            <a:ext cx="5105520" cy="257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Scan_Pic0001.jpg"/>
          <p:cNvPicPr/>
          <p:nvPr/>
        </p:nvPicPr>
        <p:blipFill>
          <a:blip r:embed="rId2"/>
          <a:srcRect l="53083" t="37918" r="7499" b="43796"/>
          <a:stretch/>
        </p:blipFill>
        <p:spPr>
          <a:xfrm>
            <a:off x="5105520" y="609480"/>
            <a:ext cx="4038480" cy="25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can_Pic0004.jpg"/>
          <p:cNvPicPr/>
          <p:nvPr/>
        </p:nvPicPr>
        <p:blipFill>
          <a:blip r:embed="rId3"/>
          <a:srcRect l="23983" t="18836" r="61019" b="74704"/>
          <a:stretch/>
        </p:blipFill>
        <p:spPr>
          <a:xfrm>
            <a:off x="5029200" y="685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can_Pic0001.jpg"/>
          <p:cNvPicPr/>
          <p:nvPr/>
        </p:nvPicPr>
        <p:blipFill>
          <a:blip r:embed="rId1"/>
          <a:srcRect l="4178" t="56476" r="6405" b="11321"/>
          <a:stretch/>
        </p:blipFill>
        <p:spPr>
          <a:xfrm>
            <a:off x="228600" y="533520"/>
            <a:ext cx="876924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19080" y="1106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*6=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can_Pic0001.jpg"/>
          <p:cNvPicPr/>
          <p:nvPr/>
        </p:nvPicPr>
        <p:blipFill>
          <a:blip r:embed="rId1"/>
          <a:srcRect l="4178" t="56476" r="49201" b="11321"/>
          <a:stretch/>
        </p:blipFill>
        <p:spPr>
          <a:xfrm>
            <a:off x="228600" y="53352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Scan_Pic0004.jpg"/>
          <p:cNvPicPr/>
          <p:nvPr/>
        </p:nvPicPr>
        <p:blipFill>
          <a:blip r:embed="rId2"/>
          <a:srcRect l="23441" t="25117" r="61311" b="62991"/>
          <a:stretch/>
        </p:blipFill>
        <p:spPr>
          <a:xfrm>
            <a:off x="4800600" y="463680"/>
            <a:ext cx="4114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veryday math journal 1.2 p6.jpg"/>
          <p:cNvPicPr/>
          <p:nvPr/>
        </p:nvPicPr>
        <p:blipFill>
          <a:blip r:embed="rId1"/>
          <a:srcRect l="2626" t="6666" r="2626" b="3331"/>
          <a:stretch/>
        </p:blipFill>
        <p:spPr>
          <a:xfrm>
            <a:off x="2133720" y="0"/>
            <a:ext cx="51814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veryday math journal 1.2 p6.jpg"/>
          <p:cNvPicPr/>
          <p:nvPr/>
        </p:nvPicPr>
        <p:blipFill>
          <a:blip r:embed="rId1"/>
          <a:srcRect l="2630" t="6667" r="2630" b="50786"/>
          <a:stretch/>
        </p:blipFill>
        <p:spPr>
          <a:xfrm>
            <a:off x="304920" y="0"/>
            <a:ext cx="88390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veryday math journal 1.2 p6.jpg"/>
          <p:cNvPicPr/>
          <p:nvPr/>
        </p:nvPicPr>
        <p:blipFill>
          <a:blip r:embed="rId1"/>
          <a:srcRect l="5603" t="49216" r="31361" b="17488"/>
          <a:stretch/>
        </p:blipFill>
        <p:spPr>
          <a:xfrm>
            <a:off x="0" y="152280"/>
            <a:ext cx="891540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14804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259596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789720" y="533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14804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59596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789720" y="1227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997200" y="1913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59596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91968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997200" y="267480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259596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91968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99720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2595960" y="3513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81672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1100520" y="4199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24451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38167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99720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2595960" y="48848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381672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4"/>
          <p:cNvSpPr/>
          <p:nvPr/>
        </p:nvSpPr>
        <p:spPr>
          <a:xfrm>
            <a:off x="9972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23688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3919680" y="55706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everyday math journal 1.2 p7.jpg"/>
          <p:cNvPicPr/>
          <p:nvPr/>
        </p:nvPicPr>
        <p:blipFill>
          <a:blip r:embed="rId1"/>
          <a:srcRect l="4003" t="2996" r="2628" b="7779"/>
          <a:stretch/>
        </p:blipFill>
        <p:spPr>
          <a:xfrm>
            <a:off x="1981080" y="47520"/>
            <a:ext cx="51818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9:40Z</dcterms:created>
  <dc:creator>Valued Acer Customer</dc:creator>
  <dc:description/>
  <dc:language>en-US</dc:language>
  <cp:lastModifiedBy>Valued Acer Customer</cp:lastModifiedBy>
  <dcterms:modified xsi:type="dcterms:W3CDTF">2010-09-09T09:33:42Z</dcterms:modified>
  <cp:revision>2</cp:revision>
  <dc:subject/>
  <dc:title>Slide 1</dc:title>
</cp:coreProperties>
</file>