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E6BB-6F0F-4E8D-BB13-32056DD15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0778-C271-455C-8A39-FDDF95D02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328D-377A-47A4-AC48-30163D260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54B2-1630-46CE-981C-D0AECF76A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9EE-3C2F-4C2D-B37B-8D6780AB2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DDBD-B385-4D07-8D22-7EA3C9931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B44-F87D-4C0D-8CF3-052C6DAB0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8447-5620-4A23-85A9-1780EA0F8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8EDA-5883-4912-8D5C-4CEB2F0F1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350-67EB-4439-90E1-1623884A4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21BB-77DC-4E6B-AA9D-D0B7E8C82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C9EB-82C2-442D-A09A-350CBC5D6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CA6D-4CBC-4565-A345-2C169DB7F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E3C-D3ED-418D-8367-C8A49CC3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5CD-7948-4437-8DB2-A2CC172A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E98-E5E1-44BC-B8AC-C81C65A2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DE1-9F4E-499B-AA36-695535C1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8BE-E3FD-4BFC-A627-27A5A20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647-90E1-4480-B864-0951E6C6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0B3-1134-4603-B18B-7D7C49E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577-8EC8-4ACD-B927-F2904D5E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0CC-2D73-4882-B9F0-B0AFABC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F38-E8D9-459F-818A-CECFA328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6F8-5264-4F7D-878E-BA449B9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CE4-7906-43C7-8AE6-BBCFBE2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9101-DB6E-4C6A-92E4-D9185977F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can_Pic0001.jpg"/>
          <p:cNvPicPr/>
          <p:nvPr/>
        </p:nvPicPr>
        <p:blipFill>
          <a:blip r:embed="rId1"/>
          <a:srcRect l="2629" t="0" r="4160" b="8891"/>
          <a:stretch/>
        </p:blipFill>
        <p:spPr>
          <a:xfrm>
            <a:off x="2057400" y="0"/>
            <a:ext cx="5105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everyday math journal 1.2 p7.jpg"/>
          <p:cNvPicPr/>
          <p:nvPr/>
        </p:nvPicPr>
        <p:blipFill>
          <a:blip r:embed="rId1"/>
          <a:srcRect l="8026" t="11773" r="23558" b="72674"/>
          <a:stretch/>
        </p:blipFill>
        <p:spPr>
          <a:xfrm>
            <a:off x="0" y="5335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8948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4196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199400" y="54144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6860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2144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178880" y="11509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0720" y="18367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4656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2944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18120" y="25225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4530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2818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everyday math journal 1.2 p7.jpg"/>
          <p:cNvPicPr/>
          <p:nvPr/>
        </p:nvPicPr>
        <p:blipFill>
          <a:blip r:embed="rId1"/>
          <a:srcRect l="5178" t="27328" r="53629" b="61835"/>
          <a:stretch/>
        </p:blipFill>
        <p:spPr>
          <a:xfrm>
            <a:off x="0" y="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veryday math journal 1.2 p6.jpg"/>
          <p:cNvPicPr/>
          <p:nvPr/>
        </p:nvPicPr>
        <p:blipFill>
          <a:blip r:embed="rId2"/>
          <a:srcRect l="46875" t="52402" r="31226" b="32761"/>
          <a:stretch/>
        </p:blipFill>
        <p:spPr>
          <a:xfrm>
            <a:off x="210960" y="3144960"/>
            <a:ext cx="3903840" cy="36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veryday math journal 1.2 p6.jpg"/>
          <p:cNvPicPr/>
          <p:nvPr/>
        </p:nvPicPr>
        <p:blipFill>
          <a:blip r:embed="rId3"/>
          <a:srcRect l="45652" t="67886" r="31346" b="17779"/>
          <a:stretch/>
        </p:blipFill>
        <p:spPr>
          <a:xfrm>
            <a:off x="4876920" y="312408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901240" y="82872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901240" y="175248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988640" y="2362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#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can_Pic0004.jpg"/>
          <p:cNvPicPr/>
          <p:nvPr/>
        </p:nvPicPr>
        <p:blipFill>
          <a:blip r:embed="rId1"/>
          <a:srcRect l="5646" t="3082" r="61098" b="81723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an_Pic0001.jpg"/>
          <p:cNvPicPr/>
          <p:nvPr/>
        </p:nvPicPr>
        <p:blipFill>
          <a:blip r:embed="rId1"/>
          <a:srcRect l="3246" t="37918" r="46920" b="43796"/>
          <a:stretch/>
        </p:blipFill>
        <p:spPr>
          <a:xfrm>
            <a:off x="0" y="609480"/>
            <a:ext cx="5105520" cy="25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can_Pic0001.jpg"/>
          <p:cNvPicPr/>
          <p:nvPr/>
        </p:nvPicPr>
        <p:blipFill>
          <a:blip r:embed="rId2"/>
          <a:srcRect l="53083" t="37918" r="7499" b="43796"/>
          <a:stretch/>
        </p:blipFill>
        <p:spPr>
          <a:xfrm>
            <a:off x="5105520" y="609480"/>
            <a:ext cx="4038480" cy="25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can_Pic0004.jpg"/>
          <p:cNvPicPr/>
          <p:nvPr/>
        </p:nvPicPr>
        <p:blipFill>
          <a:blip r:embed="rId3"/>
          <a:srcRect l="23983" t="18836" r="61019" b="74704"/>
          <a:stretch/>
        </p:blipFill>
        <p:spPr>
          <a:xfrm>
            <a:off x="5029200" y="685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can_Pic0001.jpg"/>
          <p:cNvPicPr/>
          <p:nvPr/>
        </p:nvPicPr>
        <p:blipFill>
          <a:blip r:embed="rId1"/>
          <a:srcRect l="4178" t="56476" r="6405" b="11321"/>
          <a:stretch/>
        </p:blipFill>
        <p:spPr>
          <a:xfrm>
            <a:off x="228600" y="533520"/>
            <a:ext cx="8769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19080" y="110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*6=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can_Pic0001.jpg"/>
          <p:cNvPicPr/>
          <p:nvPr/>
        </p:nvPicPr>
        <p:blipFill>
          <a:blip r:embed="rId1"/>
          <a:srcRect l="4178" t="56476" r="49201" b="11321"/>
          <a:stretch/>
        </p:blipFill>
        <p:spPr>
          <a:xfrm>
            <a:off x="228600" y="5335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Scan_Pic0004.jpg"/>
          <p:cNvPicPr/>
          <p:nvPr/>
        </p:nvPicPr>
        <p:blipFill>
          <a:blip r:embed="rId2"/>
          <a:srcRect l="23441" t="25117" r="61311" b="62991"/>
          <a:stretch/>
        </p:blipFill>
        <p:spPr>
          <a:xfrm>
            <a:off x="4800600" y="463680"/>
            <a:ext cx="4114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veryday math journal 1.2 p6.jpg"/>
          <p:cNvPicPr/>
          <p:nvPr/>
        </p:nvPicPr>
        <p:blipFill>
          <a:blip r:embed="rId1"/>
          <a:srcRect l="2626" t="6666" r="2626" b="3331"/>
          <a:stretch/>
        </p:blipFill>
        <p:spPr>
          <a:xfrm>
            <a:off x="2133720" y="0"/>
            <a:ext cx="5181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veryday math journal 1.2 p6.jpg"/>
          <p:cNvPicPr/>
          <p:nvPr/>
        </p:nvPicPr>
        <p:blipFill>
          <a:blip r:embed="rId1"/>
          <a:srcRect l="2630" t="6667" r="2630" b="50786"/>
          <a:stretch/>
        </p:blipFill>
        <p:spPr>
          <a:xfrm>
            <a:off x="304920" y="0"/>
            <a:ext cx="883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veryday math journal 1.2 p6.jpg"/>
          <p:cNvPicPr/>
          <p:nvPr/>
        </p:nvPicPr>
        <p:blipFill>
          <a:blip r:embed="rId1"/>
          <a:srcRect l="5603" t="49216" r="31361" b="17488"/>
          <a:stretch/>
        </p:blipFill>
        <p:spPr>
          <a:xfrm>
            <a:off x="0" y="152280"/>
            <a:ext cx="89154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14804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9596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720" y="533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14804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59596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789720" y="1227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97200" y="1913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9596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91968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997200" y="267480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59596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91968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99720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595960" y="3513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81672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100520" y="4199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24451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38167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99720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2595960" y="48848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81672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9972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3688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919680" y="55706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veryday math journal 1.2 p7.jpg"/>
          <p:cNvPicPr/>
          <p:nvPr/>
        </p:nvPicPr>
        <p:blipFill>
          <a:blip r:embed="rId1"/>
          <a:srcRect l="4003" t="2996" r="2628" b="7779"/>
          <a:stretch/>
        </p:blipFill>
        <p:spPr>
          <a:xfrm>
            <a:off x="1981080" y="47520"/>
            <a:ext cx="5181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9:40Z</dcterms:created>
  <dc:creator>Valued Acer Customer</dc:creator>
  <dc:description/>
  <dc:language>en-US</dc:language>
  <cp:lastModifiedBy>Valued Acer Customer</cp:lastModifiedBy>
  <dcterms:modified xsi:type="dcterms:W3CDTF">2010-09-09T09:33:42Z</dcterms:modified>
  <cp:revision>2</cp:revision>
  <dc:subject/>
  <dc:title>Slide 1</dc:title>
</cp:coreProperties>
</file>