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111B-961C-4269-BCC0-6D736B319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DFBF-D841-47EB-A448-D497452BC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951D-4D44-4705-A9B9-AF5772A5A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368F-A3EA-47B6-8FE6-A92E64C0C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370-39B9-43D0-9B85-4ECE7ABA8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671-0EAB-45DF-B800-B99673162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5C69-9C88-4B2F-BFFD-146423018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5DA0-CDD3-410E-8A6F-9832F9988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940A-3A0D-4BF8-A61E-5EE8DDA79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6FA3-8C28-44A3-A8F5-3EB667648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4A62-96D4-4958-8556-D5478CAED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1639-503F-49A8-89C0-D76E8E75E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6F4-7F88-4DED-B70E-DC79F5CD9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E7C-FB59-4444-9CC2-564E319D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CFC-AD91-4823-9EE1-F5EB1B7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B74-4021-47E4-B430-C5921E57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E38-E550-4395-9DC8-9FA37807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89B-3BD1-42CD-88BA-94B4A8CF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98C-5B4A-46B7-B9D5-93D8A005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BE9-CF6E-464F-A5A5-A336055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9DB-CC80-4866-A397-7F4780E3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0D2-8459-4F7F-B034-14FC1F70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CF4-2BA3-4FF1-A6E2-76310641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430-D5DF-4FB4-BEE0-9027B772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4BA-03E3-4B76-B21F-89A35586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A44-8724-471F-96C1-8D1B3A47E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can_Pic0001.jpg"/>
          <p:cNvPicPr/>
          <p:nvPr/>
        </p:nvPicPr>
        <p:blipFill>
          <a:blip r:embed="rId1"/>
          <a:srcRect l="2629" t="0" r="4160" b="8891"/>
          <a:stretch/>
        </p:blipFill>
        <p:spPr>
          <a:xfrm>
            <a:off x="2057400" y="0"/>
            <a:ext cx="5105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everyday math journal 1.2 p7.jpg"/>
          <p:cNvPicPr/>
          <p:nvPr/>
        </p:nvPicPr>
        <p:blipFill>
          <a:blip r:embed="rId1"/>
          <a:srcRect l="8026" t="11773" r="23558" b="72674"/>
          <a:stretch/>
        </p:blipFill>
        <p:spPr>
          <a:xfrm>
            <a:off x="0" y="5335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8948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4196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199400" y="54144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6860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52144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178880" y="11509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30720" y="18367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4656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2944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18120" y="25225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4530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2818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everyday math journal 1.2 p7.jpg"/>
          <p:cNvPicPr/>
          <p:nvPr/>
        </p:nvPicPr>
        <p:blipFill>
          <a:blip r:embed="rId1"/>
          <a:srcRect l="5178" t="27328" r="53629" b="61835"/>
          <a:stretch/>
        </p:blipFill>
        <p:spPr>
          <a:xfrm>
            <a:off x="0" y="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veryday math journal 1.2 p6.jpg"/>
          <p:cNvPicPr/>
          <p:nvPr/>
        </p:nvPicPr>
        <p:blipFill>
          <a:blip r:embed="rId2"/>
          <a:srcRect l="46875" t="52402" r="31226" b="32761"/>
          <a:stretch/>
        </p:blipFill>
        <p:spPr>
          <a:xfrm>
            <a:off x="210960" y="3144960"/>
            <a:ext cx="3903840" cy="36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veryday math journal 1.2 p6.jpg"/>
          <p:cNvPicPr/>
          <p:nvPr/>
        </p:nvPicPr>
        <p:blipFill>
          <a:blip r:embed="rId3"/>
          <a:srcRect l="45652" t="67886" r="31346" b="17779"/>
          <a:stretch/>
        </p:blipFill>
        <p:spPr>
          <a:xfrm>
            <a:off x="4876920" y="312408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901240" y="82872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901240" y="175248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988640" y="2362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it #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can_Pic0004.jpg"/>
          <p:cNvPicPr/>
          <p:nvPr/>
        </p:nvPicPr>
        <p:blipFill>
          <a:blip r:embed="rId1"/>
          <a:srcRect l="5646" t="3082" r="61098" b="81723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an_Pic0001.jpg"/>
          <p:cNvPicPr/>
          <p:nvPr/>
        </p:nvPicPr>
        <p:blipFill>
          <a:blip r:embed="rId1"/>
          <a:srcRect l="3246" t="37918" r="46920" b="43796"/>
          <a:stretch/>
        </p:blipFill>
        <p:spPr>
          <a:xfrm>
            <a:off x="0" y="609480"/>
            <a:ext cx="5105520" cy="25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Scan_Pic0001.jpg"/>
          <p:cNvPicPr/>
          <p:nvPr/>
        </p:nvPicPr>
        <p:blipFill>
          <a:blip r:embed="rId2"/>
          <a:srcRect l="53083" t="37918" r="7499" b="43796"/>
          <a:stretch/>
        </p:blipFill>
        <p:spPr>
          <a:xfrm>
            <a:off x="5105520" y="609480"/>
            <a:ext cx="4038480" cy="25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can_Pic0004.jpg"/>
          <p:cNvPicPr/>
          <p:nvPr/>
        </p:nvPicPr>
        <p:blipFill>
          <a:blip r:embed="rId3"/>
          <a:srcRect l="23983" t="18836" r="61019" b="74704"/>
          <a:stretch/>
        </p:blipFill>
        <p:spPr>
          <a:xfrm>
            <a:off x="5029200" y="685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can_Pic0001.jpg"/>
          <p:cNvPicPr/>
          <p:nvPr/>
        </p:nvPicPr>
        <p:blipFill>
          <a:blip r:embed="rId1"/>
          <a:srcRect l="4178" t="56476" r="6405" b="11321"/>
          <a:stretch/>
        </p:blipFill>
        <p:spPr>
          <a:xfrm>
            <a:off x="228600" y="533520"/>
            <a:ext cx="8769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19080" y="1106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*6=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can_Pic0001.jpg"/>
          <p:cNvPicPr/>
          <p:nvPr/>
        </p:nvPicPr>
        <p:blipFill>
          <a:blip r:embed="rId1"/>
          <a:srcRect l="4178" t="56476" r="49201" b="11321"/>
          <a:stretch/>
        </p:blipFill>
        <p:spPr>
          <a:xfrm>
            <a:off x="228600" y="5335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Scan_Pic0004.jpg"/>
          <p:cNvPicPr/>
          <p:nvPr/>
        </p:nvPicPr>
        <p:blipFill>
          <a:blip r:embed="rId2"/>
          <a:srcRect l="23441" t="25117" r="61311" b="62991"/>
          <a:stretch/>
        </p:blipFill>
        <p:spPr>
          <a:xfrm>
            <a:off x="4800600" y="463680"/>
            <a:ext cx="4114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veryday math journal 1.2 p6.jpg"/>
          <p:cNvPicPr/>
          <p:nvPr/>
        </p:nvPicPr>
        <p:blipFill>
          <a:blip r:embed="rId1"/>
          <a:srcRect l="2626" t="6666" r="2626" b="3331"/>
          <a:stretch/>
        </p:blipFill>
        <p:spPr>
          <a:xfrm>
            <a:off x="2133720" y="0"/>
            <a:ext cx="51814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veryday math journal 1.2 p6.jpg"/>
          <p:cNvPicPr/>
          <p:nvPr/>
        </p:nvPicPr>
        <p:blipFill>
          <a:blip r:embed="rId1"/>
          <a:srcRect l="2630" t="6667" r="2630" b="50786"/>
          <a:stretch/>
        </p:blipFill>
        <p:spPr>
          <a:xfrm>
            <a:off x="304920" y="0"/>
            <a:ext cx="883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veryday math journal 1.2 p6.jpg"/>
          <p:cNvPicPr/>
          <p:nvPr/>
        </p:nvPicPr>
        <p:blipFill>
          <a:blip r:embed="rId1"/>
          <a:srcRect l="5603" t="49216" r="31361" b="17488"/>
          <a:stretch/>
        </p:blipFill>
        <p:spPr>
          <a:xfrm>
            <a:off x="0" y="152280"/>
            <a:ext cx="891540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14804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59596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720" y="533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14804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59596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789720" y="1227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97200" y="1913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9596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91968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997200" y="267480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259596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91968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99720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595960" y="3513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81672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100520" y="4199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24451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38167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99720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2595960" y="48848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381672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9972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3688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919680" y="55706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everyday math journal 1.2 p7.jpg"/>
          <p:cNvPicPr/>
          <p:nvPr/>
        </p:nvPicPr>
        <p:blipFill>
          <a:blip r:embed="rId1"/>
          <a:srcRect l="4003" t="2996" r="2628" b="7779"/>
          <a:stretch/>
        </p:blipFill>
        <p:spPr>
          <a:xfrm>
            <a:off x="1981080" y="47520"/>
            <a:ext cx="5181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9:40Z</dcterms:created>
  <dc:creator>Valued Acer Customer</dc:creator>
  <dc:description/>
  <dc:language>en-US</dc:language>
  <cp:lastModifiedBy>Valued Acer Customer</cp:lastModifiedBy>
  <dcterms:modified xsi:type="dcterms:W3CDTF">2010-09-09T09:33:42Z</dcterms:modified>
  <cp:revision>2</cp:revision>
  <dc:subject/>
  <dc:title>Slide 1</dc:title>
</cp:coreProperties>
</file>