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DF86-19FC-4323-B153-4E0EFD3F1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9DA1-297E-4268-A13A-0D4E76926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B331-59D4-404A-B78F-02C3F8CE5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061B-50E4-43F5-B6A0-D968F45FA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0C6A-677A-443D-955A-CD000CD29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93B1-AA33-458D-B372-8E60CBA28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18D-20F7-4ACF-8BC3-3454D4A6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339-65E0-49CC-9FF1-D2B79A23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E6C-992A-4C44-8F08-40130321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045-E46E-4F85-A902-4FC5D8E3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EA5-FD91-4A93-9734-F0B3563E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84E-221A-48D4-890B-0C61C5F2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CEA-E414-4B94-9887-70AF571D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697-54B5-4F89-9168-653BD309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04F-7CAB-40FC-A825-8323D51D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6DF-2ED7-4746-BE25-7EF684B8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597-2831-4034-BC48-883C9996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9077-F1BC-45CB-94AF-302D23E4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8C98-45BA-4CDA-A0D6-3ABE34BA7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veryday math TE p25 1.2.jpg"/>
          <p:cNvPicPr/>
          <p:nvPr/>
        </p:nvPicPr>
        <p:blipFill>
          <a:blip r:embed="rId1"/>
          <a:srcRect l="61295" t="62106" r="21997" b="28021"/>
          <a:stretch/>
        </p:blipFill>
        <p:spPr>
          <a:xfrm>
            <a:off x="457200" y="76320"/>
            <a:ext cx="7924680" cy="64389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962520" y="190512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962520" y="274320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962520" y="3581280"/>
            <a:ext cx="914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962520" y="441972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096200" y="5181480"/>
            <a:ext cx="598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alibri"/>
              </a:rPr>
              <a:t>1, 4, 5, 6, 8, 8, 10, 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Up Arrow 8"/>
          <p:cNvSpPr/>
          <p:nvPr/>
        </p:nvSpPr>
        <p:spPr>
          <a:xfrm>
            <a:off x="3429000" y="6019920"/>
            <a:ext cx="685800" cy="609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everyday math TE p25 1.2.jpg"/>
          <p:cNvPicPr/>
          <p:nvPr/>
        </p:nvPicPr>
        <p:blipFill>
          <a:blip r:embed="rId1"/>
          <a:srcRect l="78005" t="62486" r="5807" b="28403"/>
          <a:stretch/>
        </p:blipFill>
        <p:spPr>
          <a:xfrm>
            <a:off x="228600" y="0"/>
            <a:ext cx="85345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everyday math TE p25 1.2.jpg"/>
          <p:cNvPicPr/>
          <p:nvPr/>
        </p:nvPicPr>
        <p:blipFill>
          <a:blip r:embed="rId1"/>
          <a:srcRect l="61295" t="71599" r="21474" b="18909"/>
          <a:stretch/>
        </p:blipFill>
        <p:spPr>
          <a:xfrm>
            <a:off x="0" y="0"/>
            <a:ext cx="90518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4343400" y="1447920"/>
            <a:ext cx="396252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343400" y="3276720"/>
            <a:ext cx="3124080" cy="25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veryday math TE p25 1.2.jpg"/>
          <p:cNvPicPr/>
          <p:nvPr/>
        </p:nvPicPr>
        <p:blipFill>
          <a:blip r:embed="rId1"/>
          <a:srcRect l="78005" t="71683" r="5807" b="18529"/>
          <a:stretch/>
        </p:blipFill>
        <p:spPr>
          <a:xfrm>
            <a:off x="152280" y="0"/>
            <a:ext cx="7925040" cy="6591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828800" y="1600200"/>
            <a:ext cx="22096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676520" y="3657600"/>
            <a:ext cx="236196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everyday math TE p25 1.2.jpg"/>
          <p:cNvPicPr/>
          <p:nvPr/>
        </p:nvPicPr>
        <p:blipFill>
          <a:blip r:embed="rId1"/>
          <a:srcRect l="62420" t="81093" r="10587" b="17574"/>
          <a:stretch/>
        </p:blipFill>
        <p:spPr>
          <a:xfrm>
            <a:off x="76320" y="76320"/>
            <a:ext cx="8961480" cy="609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everyday math TE p25 1.2.jpg"/>
          <p:cNvPicPr/>
          <p:nvPr/>
        </p:nvPicPr>
        <p:blipFill>
          <a:blip r:embed="rId2"/>
          <a:srcRect l="72060" t="82428" r="15545" b="16321"/>
          <a:stretch/>
        </p:blipFill>
        <p:spPr>
          <a:xfrm>
            <a:off x="533520" y="1066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everyday math TE p25 1.2.jpg"/>
          <p:cNvPicPr/>
          <p:nvPr/>
        </p:nvPicPr>
        <p:blipFill>
          <a:blip r:embed="rId3"/>
          <a:srcRect l="70684" t="86435" r="15085" b="11135"/>
          <a:stretch/>
        </p:blipFill>
        <p:spPr>
          <a:xfrm>
            <a:off x="609480" y="3962520"/>
            <a:ext cx="7782120" cy="1828800"/>
          </a:xfrm>
          <a:prstGeom prst="rect">
            <a:avLst/>
          </a:prstGeom>
          <a:ln w="0">
            <a:noFill/>
          </a:ln>
        </p:spPr>
      </p:pic>
      <p:cxnSp>
        <p:nvCxnSpPr>
          <p:cNvPr id="65" name="Straight Arrow Connector 10"/>
          <p:cNvCxnSpPr/>
          <p:nvPr/>
        </p:nvCxnSpPr>
        <p:spPr>
          <a:xfrm>
            <a:off x="1066320" y="2133360"/>
            <a:ext cx="3963240" cy="1905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12"/>
          <p:cNvCxnSpPr/>
          <p:nvPr/>
        </p:nvCxnSpPr>
        <p:spPr>
          <a:xfrm>
            <a:off x="3276720" y="2286000"/>
            <a:ext cx="305280" cy="17532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7" name="Straight Arrow Connector 15"/>
          <p:cNvCxnSpPr/>
          <p:nvPr/>
        </p:nvCxnSpPr>
        <p:spPr>
          <a:xfrm>
            <a:off x="5715000" y="2286000"/>
            <a:ext cx="1448640" cy="17532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Straight Arrow Connector 17"/>
          <p:cNvCxnSpPr/>
          <p:nvPr/>
        </p:nvCxnSpPr>
        <p:spPr>
          <a:xfrm flipH="1">
            <a:off x="2209320" y="2286000"/>
            <a:ext cx="5487120" cy="1829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35:44Z</dcterms:created>
  <dc:creator>Valued Acer Customer</dc:creator>
  <dc:description/>
  <dc:language>en-US</dc:language>
  <cp:lastModifiedBy>Valued Acer Customer</cp:lastModifiedBy>
  <dcterms:modified xsi:type="dcterms:W3CDTF">2010-09-09T09:58:20Z</dcterms:modified>
  <cp:revision>2</cp:revision>
  <dc:subject/>
  <dc:title>Slide 1</dc:title>
</cp:coreProperties>
</file>