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17CD-B4C4-49FA-ABF4-75E486093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CAD5-11AB-43DC-829E-9318FA782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7109-1810-41DC-89F1-0437F4FE1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E0F9-336A-495C-AFC2-E83A6E5F4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6E29-7685-46BA-8446-8A112A1A6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0014-7B2E-4D24-92CE-CB671E74E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03C-3AB5-49B0-AB7D-EC278868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BBD-ACC8-4DD6-8F97-FA0CE0FF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AA3-9A8D-4EE0-B45E-E1AF7754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290-64D1-4DAA-9569-0F795FA3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869-A159-4443-93C3-62FAF946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21E-7C3B-4B6C-8350-C8936758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3B2-960F-4042-8FBB-CC5ED952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86F-3CDA-49D1-9AD3-89491BF7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575-31AA-4BA5-9295-4E8A5710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27E-9521-4B24-89C0-4F7F4BCE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772-1B23-4D31-A084-669BFD70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CB5-559B-4410-AA95-E4BFC0A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1FA-0DE1-410E-8CAA-E8595C548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TE p25 1.2.jpg"/>
          <p:cNvPicPr/>
          <p:nvPr/>
        </p:nvPicPr>
        <p:blipFill>
          <a:blip r:embed="rId1"/>
          <a:srcRect l="61295" t="62106" r="21997" b="28021"/>
          <a:stretch/>
        </p:blipFill>
        <p:spPr>
          <a:xfrm>
            <a:off x="457200" y="76320"/>
            <a:ext cx="7924680" cy="6438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962520" y="19051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62520" y="274320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3581280"/>
            <a:ext cx="914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62520" y="44197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96200" y="5181480"/>
            <a:ext cx="59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alibri"/>
              </a:rPr>
              <a:t>1, 4, 5, 6, 8, 8, 10,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8"/>
          <p:cNvSpPr/>
          <p:nvPr/>
        </p:nvSpPr>
        <p:spPr>
          <a:xfrm>
            <a:off x="3429000" y="6019920"/>
            <a:ext cx="685800" cy="609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everyday math TE p25 1.2.jpg"/>
          <p:cNvPicPr/>
          <p:nvPr/>
        </p:nvPicPr>
        <p:blipFill>
          <a:blip r:embed="rId1"/>
          <a:srcRect l="78005" t="62486" r="5807" b="28403"/>
          <a:stretch/>
        </p:blipFill>
        <p:spPr>
          <a:xfrm>
            <a:off x="228600" y="0"/>
            <a:ext cx="85345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everyday math TE p25 1.2.jpg"/>
          <p:cNvPicPr/>
          <p:nvPr/>
        </p:nvPicPr>
        <p:blipFill>
          <a:blip r:embed="rId1"/>
          <a:srcRect l="61295" t="71599" r="21474" b="18909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343400" y="1447920"/>
            <a:ext cx="3962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43400" y="3276720"/>
            <a:ext cx="312408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veryday math TE p25 1.2.jpg"/>
          <p:cNvPicPr/>
          <p:nvPr/>
        </p:nvPicPr>
        <p:blipFill>
          <a:blip r:embed="rId1"/>
          <a:srcRect l="78005" t="71683" r="5807" b="18529"/>
          <a:stretch/>
        </p:blipFill>
        <p:spPr>
          <a:xfrm>
            <a:off x="152280" y="0"/>
            <a:ext cx="7925040" cy="659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28800" y="1600200"/>
            <a:ext cx="22096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76520" y="3657600"/>
            <a:ext cx="23619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TE p25 1.2.jpg"/>
          <p:cNvPicPr/>
          <p:nvPr/>
        </p:nvPicPr>
        <p:blipFill>
          <a:blip r:embed="rId1"/>
          <a:srcRect l="62420" t="81093" r="10587" b="17574"/>
          <a:stretch/>
        </p:blipFill>
        <p:spPr>
          <a:xfrm>
            <a:off x="76320" y="76320"/>
            <a:ext cx="896148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veryday math TE p25 1.2.jpg"/>
          <p:cNvPicPr/>
          <p:nvPr/>
        </p:nvPicPr>
        <p:blipFill>
          <a:blip r:embed="rId2"/>
          <a:srcRect l="72060" t="82428" r="15545" b="16321"/>
          <a:stretch/>
        </p:blipFill>
        <p:spPr>
          <a:xfrm>
            <a:off x="533520" y="1066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veryday math TE p25 1.2.jpg"/>
          <p:cNvPicPr/>
          <p:nvPr/>
        </p:nvPicPr>
        <p:blipFill>
          <a:blip r:embed="rId3"/>
          <a:srcRect l="70684" t="86435" r="15085" b="11135"/>
          <a:stretch/>
        </p:blipFill>
        <p:spPr>
          <a:xfrm>
            <a:off x="609480" y="3962520"/>
            <a:ext cx="77821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10"/>
          <p:cNvCxnSpPr/>
          <p:nvPr/>
        </p:nvCxnSpPr>
        <p:spPr>
          <a:xfrm>
            <a:off x="1066320" y="2133360"/>
            <a:ext cx="3963240" cy="1905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2"/>
          <p:cNvCxnSpPr/>
          <p:nvPr/>
        </p:nvCxnSpPr>
        <p:spPr>
          <a:xfrm>
            <a:off x="3276720" y="2286000"/>
            <a:ext cx="30528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15"/>
          <p:cNvCxnSpPr/>
          <p:nvPr/>
        </p:nvCxnSpPr>
        <p:spPr>
          <a:xfrm>
            <a:off x="5715000" y="2286000"/>
            <a:ext cx="144864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17"/>
          <p:cNvCxnSpPr/>
          <p:nvPr/>
        </p:nvCxnSpPr>
        <p:spPr>
          <a:xfrm flipH="1">
            <a:off x="2209320" y="2286000"/>
            <a:ext cx="5487120" cy="18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35:44Z</dcterms:created>
  <dc:creator>Valued Acer Customer</dc:creator>
  <dc:description/>
  <dc:language>en-US</dc:language>
  <cp:lastModifiedBy>Valued Acer Customer</cp:lastModifiedBy>
  <dcterms:modified xsi:type="dcterms:W3CDTF">2010-09-09T09:58:20Z</dcterms:modified>
  <cp:revision>2</cp:revision>
  <dc:subject/>
  <dc:title>Slide 1</dc:title>
</cp:coreProperties>
</file>