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1C7D-8EC5-445E-ACC8-D3F2003AB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C208-4936-4CB3-A8EF-8BF8761E10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2468-1CD6-45BE-B927-851F2168C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A8AB-71D4-4284-8051-B25A4BA48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E8D8-55DB-47CC-872B-63AFE30B7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5AC6-9DDD-4DC1-B6C2-97255FA22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71D2-9A3C-48E4-8223-07749AA2E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1FC7-6456-4EC0-AFD2-94194C289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C919-BB1C-4FE5-BD6D-86E422F54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B03-FDA2-489A-8718-45AB60FA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CBEC-18E3-4147-914A-CFA13EA1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9B61-A2B6-47C2-98DC-B536AF98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01C-27F8-4F2E-A055-E76FEDFE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983F-7B16-411F-8A9E-5EAD15AC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DA4-924C-4479-A20C-F55B51DB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BD3-9775-43D4-BED3-61B4278A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54A-A002-43DB-B171-5E7C77A6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554-BDCF-4BFC-9A77-B92A26F7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EC0-3EB8-421A-B5A8-C394FD0E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3CA-F30F-4B49-AA35-A5033721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7CB-2F1A-4B59-850F-F3DA35DC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ECBF-B6A5-4E40-8B33-D6684A239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veryday math boxes 1.1.jpg"/>
          <p:cNvPicPr/>
          <p:nvPr/>
        </p:nvPicPr>
        <p:blipFill>
          <a:blip r:embed="rId1"/>
          <a:stretch/>
        </p:blipFill>
        <p:spPr>
          <a:xfrm>
            <a:off x="2057400" y="304920"/>
            <a:ext cx="44672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everyday math boxes 1.1.jpg"/>
          <p:cNvPicPr/>
          <p:nvPr/>
        </p:nvPicPr>
        <p:blipFill>
          <a:blip r:embed="rId1"/>
          <a:srcRect l="53069" t="13700" r="12531" b="70639"/>
          <a:stretch/>
        </p:blipFill>
        <p:spPr>
          <a:xfrm>
            <a:off x="609480" y="0"/>
            <a:ext cx="6096240" cy="3713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532680" y="350532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823120" y="350532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059920" y="3505320"/>
            <a:ext cx="3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297440" y="3505320"/>
            <a:ext cx="31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4217760" y="3505320"/>
            <a:ext cx="398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4987080" y="3505320"/>
            <a:ext cx="317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4786560" y="240984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114660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190872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410076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28032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267048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everyday math boxes 1.1.jpg"/>
          <p:cNvPicPr/>
          <p:nvPr/>
        </p:nvPicPr>
        <p:blipFill>
          <a:blip r:embed="rId1"/>
          <a:srcRect l="4569" t="42114" r="55656" b="45189"/>
          <a:stretch/>
        </p:blipFill>
        <p:spPr>
          <a:xfrm>
            <a:off x="380880" y="685800"/>
            <a:ext cx="784872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02240" y="2743200"/>
            <a:ext cx="202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1*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999720" y="390528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2*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999720" y="497196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3*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168560" y="1066680"/>
            <a:ext cx="556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1 , 2 , 3 , 4 , 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everyday math boxes 1.1.jpg"/>
          <p:cNvPicPr/>
          <p:nvPr/>
        </p:nvPicPr>
        <p:blipFill>
          <a:blip r:embed="rId1"/>
          <a:srcRect l="51978" t="42397" r="3695" b="38280"/>
          <a:stretch/>
        </p:blipFill>
        <p:spPr>
          <a:xfrm>
            <a:off x="380880" y="380880"/>
            <a:ext cx="783756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084680" y="1143000"/>
            <a:ext cx="377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2 * 7 =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084680" y="1924200"/>
            <a:ext cx="377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7 * 2 =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083960" y="2685960"/>
            <a:ext cx="39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4     2 = 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rcRect l="21442" t="25511" r="17354" b="9179"/>
          <a:stretch/>
        </p:blipFill>
        <p:spPr>
          <a:xfrm>
            <a:off x="2185920" y="2895480"/>
            <a:ext cx="785880" cy="838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1083960" y="3524400"/>
            <a:ext cx="39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4     7 =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rcRect l="21442" t="25511" r="17354" b="9179"/>
          <a:stretch/>
        </p:blipFill>
        <p:spPr>
          <a:xfrm>
            <a:off x="2185920" y="3733920"/>
            <a:ext cx="785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everyday math boxes 1.1.jpg"/>
          <p:cNvPicPr/>
          <p:nvPr/>
        </p:nvPicPr>
        <p:blipFill>
          <a:blip r:embed="rId1"/>
          <a:srcRect l="4001" t="69273" r="53011" b="15376"/>
          <a:stretch/>
        </p:blipFill>
        <p:spPr>
          <a:xfrm>
            <a:off x="457200" y="73080"/>
            <a:ext cx="6705720" cy="3203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6199560" y="312408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5337720" y="312408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4498200" y="3124080"/>
            <a:ext cx="371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3615120" y="3124080"/>
            <a:ext cx="34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2854440" y="3124080"/>
            <a:ext cx="488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1985040" y="3124080"/>
            <a:ext cx="642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1145880" y="3124080"/>
            <a:ext cx="470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617580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99432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272916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189108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349128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432936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516780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everyday math boxes 1.1.jpg"/>
          <p:cNvPicPr/>
          <p:nvPr/>
        </p:nvPicPr>
        <p:blipFill>
          <a:blip r:embed="rId1"/>
          <a:srcRect l="51816" t="69972" r="10144" b="18279"/>
          <a:stretch/>
        </p:blipFill>
        <p:spPr>
          <a:xfrm>
            <a:off x="609480" y="609480"/>
            <a:ext cx="7927920" cy="3276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3432240" y="335268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3241800" y="12589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127680" y="335268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936880" y="1295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822760" y="335268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everyday math boxes 1.1.jpg"/>
          <p:cNvPicPr/>
          <p:nvPr/>
        </p:nvPicPr>
        <p:blipFill>
          <a:blip r:embed="rId1"/>
          <a:srcRect l="51816" t="69972" r="37582" b="27846"/>
          <a:stretch/>
        </p:blipFill>
        <p:spPr>
          <a:xfrm>
            <a:off x="609480" y="609480"/>
            <a:ext cx="2210040" cy="6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everyday math boxes 1.1.jpg"/>
          <p:cNvPicPr/>
          <p:nvPr/>
        </p:nvPicPr>
        <p:blipFill>
          <a:blip r:embed="rId2"/>
          <a:srcRect l="76681" t="73525" r="11980" b="20969"/>
          <a:stretch/>
        </p:blipFill>
        <p:spPr>
          <a:xfrm>
            <a:off x="3352680" y="1219320"/>
            <a:ext cx="5181840" cy="336708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4"/>
          <p:cNvSpPr/>
          <p:nvPr/>
        </p:nvSpPr>
        <p:spPr>
          <a:xfrm>
            <a:off x="6705720" y="175248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6669360" y="115092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7015320" y="121932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traight Connector 7"/>
          <p:cNvSpPr/>
          <p:nvPr/>
        </p:nvSpPr>
        <p:spPr>
          <a:xfrm>
            <a:off x="7238880" y="182880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aight Connector 8"/>
          <p:cNvSpPr/>
          <p:nvPr/>
        </p:nvSpPr>
        <p:spPr>
          <a:xfrm>
            <a:off x="7162920" y="129528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7166160" y="69372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10"/>
          <p:cNvSpPr/>
          <p:nvPr/>
        </p:nvSpPr>
        <p:spPr>
          <a:xfrm>
            <a:off x="7848720" y="182880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7813800" y="1227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7699680" y="404640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7148880" y="40384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everyday math boxes 1.1.jpg"/>
          <p:cNvPicPr/>
          <p:nvPr/>
        </p:nvPicPr>
        <p:blipFill>
          <a:blip r:embed="rId1"/>
          <a:stretch/>
        </p:blipFill>
        <p:spPr>
          <a:xfrm>
            <a:off x="2057400" y="304920"/>
            <a:ext cx="44672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2:15:17Z</dcterms:created>
  <dc:creator>Valued Acer Customer</dc:creator>
  <dc:description/>
  <dc:language>en-US</dc:language>
  <cp:lastModifiedBy>Valued Acer Customer</cp:lastModifiedBy>
  <dcterms:modified xsi:type="dcterms:W3CDTF">2010-09-08T23:02:58Z</dcterms:modified>
  <cp:revision>4</cp:revision>
  <dc:subject/>
  <dc:title>Slide 1</dc:title>
</cp:coreProperties>
</file>