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B5EF-0379-4B6A-A245-231B27C44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194B-6289-47B2-9010-8FA57C7F2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2A91-B27B-43FA-86EA-9EC974606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5594-9A1A-4A8C-AFC6-5C5300D01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DB1E-E1B9-446A-BB08-50053D338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C47B-CF7B-474E-BF86-3B128CA05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A5C6-1384-4757-A537-E15D30EFA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0E4E-D689-4799-9BDE-8A8BCC15F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B7D4-2408-4FD1-A3FB-6BF0A921A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D38-F796-4633-AA8A-21BD9BE8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B32-1EAA-4FA9-87B2-172A08BE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0CE-8EFB-4E7F-A06B-FEE2F3E2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763-F0B5-46B4-8EF5-5F8390FE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F0D-EC80-4D4F-B723-1FAB2788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E00-F180-4223-95E2-A60C6006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D44-C4A8-4877-8293-F10CC8EA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DEC-E538-407C-B9C2-C9A248B0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4B9C-1483-444A-B2C2-50A2B801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BEB-6723-438C-915D-999EBF02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081-56DC-41A2-8BE1-BB5827B3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6ED-DF6E-4007-A9D1-13F58B65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DC3C-B40E-45DC-A75C-11B3A168B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veryday math boxes 1.1.jpg"/>
          <p:cNvPicPr/>
          <p:nvPr/>
        </p:nvPicPr>
        <p:blipFill>
          <a:blip r:embed="rId1"/>
          <a:stretch/>
        </p:blipFill>
        <p:spPr>
          <a:xfrm>
            <a:off x="2057400" y="304920"/>
            <a:ext cx="44672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everyday math boxes 1.1.jpg"/>
          <p:cNvPicPr/>
          <p:nvPr/>
        </p:nvPicPr>
        <p:blipFill>
          <a:blip r:embed="rId1"/>
          <a:srcRect l="53069" t="13700" r="12531" b="70639"/>
          <a:stretch/>
        </p:blipFill>
        <p:spPr>
          <a:xfrm>
            <a:off x="609480" y="0"/>
            <a:ext cx="6096240" cy="3713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532680" y="350532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823120" y="350532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059920" y="3505320"/>
            <a:ext cx="3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297440" y="3505320"/>
            <a:ext cx="31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4217760" y="3505320"/>
            <a:ext cx="398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987080" y="3505320"/>
            <a:ext cx="317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4786560" y="240984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114660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190872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410076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28032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267048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everyday math boxes 1.1.jpg"/>
          <p:cNvPicPr/>
          <p:nvPr/>
        </p:nvPicPr>
        <p:blipFill>
          <a:blip r:embed="rId1"/>
          <a:srcRect l="4569" t="42114" r="55656" b="45189"/>
          <a:stretch/>
        </p:blipFill>
        <p:spPr>
          <a:xfrm>
            <a:off x="380880" y="685800"/>
            <a:ext cx="78487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02240" y="2743200"/>
            <a:ext cx="202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1*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999720" y="390528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2*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999720" y="497196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3*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168560" y="1066680"/>
            <a:ext cx="556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1 , 2 , 3 , 4 , 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everyday math boxes 1.1.jpg"/>
          <p:cNvPicPr/>
          <p:nvPr/>
        </p:nvPicPr>
        <p:blipFill>
          <a:blip r:embed="rId1"/>
          <a:srcRect l="51978" t="42397" r="3695" b="38280"/>
          <a:stretch/>
        </p:blipFill>
        <p:spPr>
          <a:xfrm>
            <a:off x="380880" y="380880"/>
            <a:ext cx="783756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084680" y="1143000"/>
            <a:ext cx="377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2 * 7 =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084680" y="1924200"/>
            <a:ext cx="377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7 * 2 =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083960" y="268596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4     2 = 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rcRect l="21442" t="25511" r="17354" b="9179"/>
          <a:stretch/>
        </p:blipFill>
        <p:spPr>
          <a:xfrm>
            <a:off x="2185920" y="28954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1083960" y="352440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4     7 =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rcRect l="21442" t="25511" r="17354" b="9179"/>
          <a:stretch/>
        </p:blipFill>
        <p:spPr>
          <a:xfrm>
            <a:off x="2185920" y="3733920"/>
            <a:ext cx="785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everyday math boxes 1.1.jpg"/>
          <p:cNvPicPr/>
          <p:nvPr/>
        </p:nvPicPr>
        <p:blipFill>
          <a:blip r:embed="rId1"/>
          <a:srcRect l="4001" t="69273" r="53011" b="15376"/>
          <a:stretch/>
        </p:blipFill>
        <p:spPr>
          <a:xfrm>
            <a:off x="457200" y="73080"/>
            <a:ext cx="6705720" cy="3203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6199560" y="312408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5337720" y="312408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4498200" y="3124080"/>
            <a:ext cx="37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3615120" y="3124080"/>
            <a:ext cx="34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2854440" y="3124080"/>
            <a:ext cx="488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1985040" y="3124080"/>
            <a:ext cx="642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145880" y="3124080"/>
            <a:ext cx="470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617580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99432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272916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189108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349128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432936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516780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everyday math boxes 1.1.jpg"/>
          <p:cNvPicPr/>
          <p:nvPr/>
        </p:nvPicPr>
        <p:blipFill>
          <a:blip r:embed="rId1"/>
          <a:srcRect l="51816" t="69972" r="10144" b="18279"/>
          <a:stretch/>
        </p:blipFill>
        <p:spPr>
          <a:xfrm>
            <a:off x="609480" y="609480"/>
            <a:ext cx="7927920" cy="3276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343224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3241800" y="12589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12768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36880" y="1295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82276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everyday math boxes 1.1.jpg"/>
          <p:cNvPicPr/>
          <p:nvPr/>
        </p:nvPicPr>
        <p:blipFill>
          <a:blip r:embed="rId1"/>
          <a:srcRect l="51816" t="69972" r="37582" b="27846"/>
          <a:stretch/>
        </p:blipFill>
        <p:spPr>
          <a:xfrm>
            <a:off x="609480" y="609480"/>
            <a:ext cx="2210040" cy="6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everyday math boxes 1.1.jpg"/>
          <p:cNvPicPr/>
          <p:nvPr/>
        </p:nvPicPr>
        <p:blipFill>
          <a:blip r:embed="rId2"/>
          <a:srcRect l="76681" t="73525" r="11980" b="20969"/>
          <a:stretch/>
        </p:blipFill>
        <p:spPr>
          <a:xfrm>
            <a:off x="3352680" y="1219320"/>
            <a:ext cx="5181840" cy="336708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4"/>
          <p:cNvSpPr/>
          <p:nvPr/>
        </p:nvSpPr>
        <p:spPr>
          <a:xfrm>
            <a:off x="6705720" y="175248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6669360" y="115092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7015320" y="12193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aight Connector 7"/>
          <p:cNvSpPr/>
          <p:nvPr/>
        </p:nvSpPr>
        <p:spPr>
          <a:xfrm>
            <a:off x="7238880" y="182880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8"/>
          <p:cNvSpPr/>
          <p:nvPr/>
        </p:nvSpPr>
        <p:spPr>
          <a:xfrm>
            <a:off x="7162920" y="129528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7166160" y="69372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10"/>
          <p:cNvSpPr/>
          <p:nvPr/>
        </p:nvSpPr>
        <p:spPr>
          <a:xfrm>
            <a:off x="7848720" y="182880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781380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7699680" y="404640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7148880" y="40384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everyday math boxes 1.1.jpg"/>
          <p:cNvPicPr/>
          <p:nvPr/>
        </p:nvPicPr>
        <p:blipFill>
          <a:blip r:embed="rId1"/>
          <a:stretch/>
        </p:blipFill>
        <p:spPr>
          <a:xfrm>
            <a:off x="2057400" y="304920"/>
            <a:ext cx="44672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2:15:17Z</dcterms:created>
  <dc:creator>Valued Acer Customer</dc:creator>
  <dc:description/>
  <dc:language>en-US</dc:language>
  <cp:lastModifiedBy>Valued Acer Customer</cp:lastModifiedBy>
  <dcterms:modified xsi:type="dcterms:W3CDTF">2010-09-08T23:02:58Z</dcterms:modified>
  <cp:revision>4</cp:revision>
  <dc:subject/>
  <dc:title>Slide 1</dc:title>
</cp:coreProperties>
</file>