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CC1C-4F00-4BF0-8D64-6D914BC80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4EFB-D753-4868-8C94-F6E52C392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9F1D-B099-4B02-B27E-B288B8CC1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E930-1E38-4F5A-93D0-C8E81E1AF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AA49-EDDD-4C49-809D-9A41AE4A6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53CA-A3B0-485B-A139-2A0FE0366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6288-C0EC-445B-BEC4-0A51D8AB5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1B36-5899-42B0-96A0-C5C8A4A1A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3E42-6ABC-4C0A-BE4E-6BC63F6DE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A82-8F73-4D14-9250-73961D613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A60-E1F8-405A-A0AD-06F37BB1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55A-7279-4F6B-9637-2E9E7CFC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06E-D300-4226-87AC-8742BD2A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9A5-D240-453D-BCF8-4A90169B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FDC-6664-4DF6-81DB-C7A163A2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EDE-1B64-42DA-B375-6C43CBF4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1ED-74DC-4E03-A045-51C3E57E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B2E-A6A1-4FC7-B22B-D123FF9D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F65-3DE5-4742-9D9A-761B3816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9F8-6BBB-41FD-9901-20B6FA50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0B5-A02B-456C-8C9C-FDCEFDE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BAE-81BB-4D65-9A3C-E17A8D78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F4A6-5D46-4B0A-A5CE-728438FC2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0176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42960" y="3657600"/>
            <a:ext cx="776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using rows and colum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o make rectangle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nd multiplica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781640" y="7632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697120" y="7632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821040" y="76320"/>
            <a:ext cx="93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738800" y="1254240"/>
            <a:ext cx="62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757160" y="201600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832400" y="2778120"/>
            <a:ext cx="53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757520" y="3540240"/>
            <a:ext cx="72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681560" y="4302000"/>
            <a:ext cx="91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757880" y="5140440"/>
            <a:ext cx="73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11"/>
          <p:cNvSpPr/>
          <p:nvPr/>
        </p:nvSpPr>
        <p:spPr>
          <a:xfrm>
            <a:off x="5105520" y="380880"/>
            <a:ext cx="3200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2"/>
          <p:cNvSpPr/>
          <p:nvPr/>
        </p:nvSpPr>
        <p:spPr>
          <a:xfrm rot="5400000">
            <a:off x="1218960" y="3504960"/>
            <a:ext cx="4419720" cy="6098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856800" y="247680"/>
            <a:ext cx="75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alibri"/>
              </a:rPr>
              <a:t>rectangular arrays for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"/>
          <p:cNvSpPr/>
          <p:nvPr/>
        </p:nvSpPr>
        <p:spPr>
          <a:xfrm>
            <a:off x="335268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480060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35268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480060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335268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480060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 row by 2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3 * 2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0"/>
          <p:cNvSpPr/>
          <p:nvPr/>
        </p:nvSpPr>
        <p:spPr>
          <a:xfrm>
            <a:off x="2895480" y="380880"/>
            <a:ext cx="7632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6019200" y="380880"/>
            <a:ext cx="7596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2"/>
          <p:cNvSpPr/>
          <p:nvPr/>
        </p:nvSpPr>
        <p:spPr>
          <a:xfrm flipH="1">
            <a:off x="2895120" y="380880"/>
            <a:ext cx="3124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"/>
          <p:cNvSpPr/>
          <p:nvPr/>
        </p:nvSpPr>
        <p:spPr>
          <a:xfrm flipH="1">
            <a:off x="2971800" y="4191120"/>
            <a:ext cx="31240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7"/>
          <p:cNvGrpSpPr/>
          <p:nvPr/>
        </p:nvGrpSpPr>
        <p:grpSpPr>
          <a:xfrm>
            <a:off x="2781000" y="1104840"/>
            <a:ext cx="3505320" cy="2362320"/>
            <a:chOff x="2781000" y="1104840"/>
            <a:chExt cx="3505320" cy="2362320"/>
          </a:xfrm>
        </p:grpSpPr>
        <p:sp>
          <p:nvSpPr>
            <p:cNvPr id="77" name="Oval 1"/>
            <p:cNvSpPr/>
            <p:nvPr/>
          </p:nvSpPr>
          <p:spPr>
            <a:xfrm rot="5400000">
              <a:off x="537192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"/>
            <p:cNvSpPr/>
            <p:nvPr/>
          </p:nvSpPr>
          <p:spPr>
            <a:xfrm rot="5400000">
              <a:off x="537192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"/>
            <p:cNvSpPr/>
            <p:nvPr/>
          </p:nvSpPr>
          <p:spPr>
            <a:xfrm rot="5400000">
              <a:off x="407664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"/>
            <p:cNvSpPr/>
            <p:nvPr/>
          </p:nvSpPr>
          <p:spPr>
            <a:xfrm rot="5400000">
              <a:off x="407664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5"/>
            <p:cNvSpPr/>
            <p:nvPr/>
          </p:nvSpPr>
          <p:spPr>
            <a:xfrm rot="5400000">
              <a:off x="278100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"/>
            <p:cNvSpPr/>
            <p:nvPr/>
          </p:nvSpPr>
          <p:spPr>
            <a:xfrm rot="5400000">
              <a:off x="278100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8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 row by 3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2 * 3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0"/>
          <p:cNvSpPr/>
          <p:nvPr/>
        </p:nvSpPr>
        <p:spPr>
          <a:xfrm>
            <a:off x="25909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5"/>
          <p:cNvSpPr/>
          <p:nvPr/>
        </p:nvSpPr>
        <p:spPr>
          <a:xfrm>
            <a:off x="64771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6"/>
          <p:cNvSpPr/>
          <p:nvPr/>
        </p:nvSpPr>
        <p:spPr>
          <a:xfrm flipH="1">
            <a:off x="2590560" y="83808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 flipH="1">
            <a:off x="2590560" y="373392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 row by 6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 * 6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68580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1337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5053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48769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62485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76201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53352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2"/>
          <p:cNvSpPr/>
          <p:nvPr/>
        </p:nvSpPr>
        <p:spPr>
          <a:xfrm>
            <a:off x="868680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3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6"/>
          <p:cNvSpPr/>
          <p:nvPr/>
        </p:nvSpPr>
        <p:spPr>
          <a:xfrm>
            <a:off x="533520" y="25909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1"/>
          <p:cNvSpPr/>
          <p:nvPr/>
        </p:nvSpPr>
        <p:spPr>
          <a:xfrm>
            <a:off x="4419720" y="457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"/>
          <p:cNvSpPr/>
          <p:nvPr/>
        </p:nvSpPr>
        <p:spPr>
          <a:xfrm>
            <a:off x="4419720" y="1219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4419720" y="1981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419720" y="2743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419720" y="3505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4419720" y="4267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528560" y="50371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 row by 1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506400" y="602784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 * 1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411480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2"/>
          <p:cNvSpPr/>
          <p:nvPr/>
        </p:nvSpPr>
        <p:spPr>
          <a:xfrm>
            <a:off x="518148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3"/>
          <p:cNvSpPr/>
          <p:nvPr/>
        </p:nvSpPr>
        <p:spPr>
          <a:xfrm>
            <a:off x="4114800" y="30492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4191120" y="502920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460960" y="4394160"/>
            <a:ext cx="37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ry this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"/>
          <p:cNvSpPr/>
          <p:nvPr/>
        </p:nvSpPr>
        <p:spPr>
          <a:xfrm>
            <a:off x="1219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266688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1219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266688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219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266688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41148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1148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41148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4864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54864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54864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6934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6934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6934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711360" y="4495680"/>
            <a:ext cx="81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 row by ____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2008080" y="5875200"/>
            <a:ext cx="49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____ * ____ =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9954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41958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22906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41194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5569560" y="5334120"/>
            <a:ext cx="131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3:56:37Z</dcterms:created>
  <dc:creator>Valued Acer Customer</dc:creator>
  <dc:description/>
  <dc:language>en-US</dc:language>
  <cp:lastModifiedBy>Valued Acer Customer</cp:lastModifiedBy>
  <dcterms:modified xsi:type="dcterms:W3CDTF">2010-09-10T18:57:33Z</dcterms:modified>
  <cp:revision>4</cp:revision>
  <dc:subject/>
  <dc:title>Slide 1</dc:title>
</cp:coreProperties>
</file>