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CE8-AEEC-42AE-A609-B1B0946BD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1A83-EAD6-407E-A8F3-387EE6E8A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E7C-10DA-4410-A767-1C719DFA8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5F6-5E5A-4512-BAAF-32A4C87A7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099A-3055-4BF3-B623-9BA815ABF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5FCD-E764-4155-8FF2-B7FB3BD68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40FC-EEF9-4158-A6AC-FB4D7ABA1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12B2-34AE-4732-87D8-DE0AF1807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3C00-58A7-4FCD-9DAA-BA830C55E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381-973A-4B52-9599-A57E3E627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A16-064D-4A6A-B74B-288F9836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6B5-593E-4751-8EFE-EDF32B2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FD6-7424-4CBF-A432-7347E0D8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26B-04D7-4F3E-B490-86A95F12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717-4518-4DF1-84F6-70489B8E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422-C79A-485D-A139-C2A54199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314-4FC1-4868-85AE-BF211D5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546-6A9A-4E0D-B7AD-E96564B1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964-866D-4EEC-B5AD-60EB9E9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8FB-168D-45D5-8074-1667B8E9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DE4-E142-4493-B49A-333EDFA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EC3-C605-4CB7-91DC-E049134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EB0A-BDDF-4B37-9EDC-434D0CB14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176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657600"/>
            <a:ext cx="77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sing rows and colum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make rectang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multiplica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781640" y="763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697120" y="7632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821040" y="76320"/>
            <a:ext cx="93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738800" y="1254240"/>
            <a:ext cx="6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57160" y="201600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832400" y="2778120"/>
            <a:ext cx="5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757520" y="3540240"/>
            <a:ext cx="72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681560" y="4302000"/>
            <a:ext cx="9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57880" y="5140440"/>
            <a:ext cx="7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1"/>
          <p:cNvSpPr/>
          <p:nvPr/>
        </p:nvSpPr>
        <p:spPr>
          <a:xfrm>
            <a:off x="5105520" y="380880"/>
            <a:ext cx="3200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 rot="5400000">
            <a:off x="1218960" y="3504960"/>
            <a:ext cx="4419720" cy="609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0" y="24768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rectangular arrays fo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335268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480060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5268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80060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35268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80060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row by 2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 * 2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0"/>
          <p:cNvSpPr/>
          <p:nvPr/>
        </p:nvSpPr>
        <p:spPr>
          <a:xfrm>
            <a:off x="2895480" y="380880"/>
            <a:ext cx="7632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6019200" y="380880"/>
            <a:ext cx="7596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2895120" y="380880"/>
            <a:ext cx="3124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"/>
          <p:cNvSpPr/>
          <p:nvPr/>
        </p:nvSpPr>
        <p:spPr>
          <a:xfrm flipH="1">
            <a:off x="2971800" y="4191120"/>
            <a:ext cx="31240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2781000" y="1104840"/>
            <a:ext cx="3505320" cy="2362320"/>
            <a:chOff x="2781000" y="1104840"/>
            <a:chExt cx="3505320" cy="2362320"/>
          </a:xfrm>
        </p:grpSpPr>
        <p:sp>
          <p:nvSpPr>
            <p:cNvPr id="77" name="Oval 1"/>
            <p:cNvSpPr/>
            <p:nvPr/>
          </p:nvSpPr>
          <p:spPr>
            <a:xfrm rot="5400000">
              <a:off x="537192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"/>
            <p:cNvSpPr/>
            <p:nvPr/>
          </p:nvSpPr>
          <p:spPr>
            <a:xfrm rot="5400000">
              <a:off x="537192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"/>
            <p:cNvSpPr/>
            <p:nvPr/>
          </p:nvSpPr>
          <p:spPr>
            <a:xfrm rot="5400000">
              <a:off x="407664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"/>
            <p:cNvSpPr/>
            <p:nvPr/>
          </p:nvSpPr>
          <p:spPr>
            <a:xfrm rot="5400000">
              <a:off x="407664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"/>
            <p:cNvSpPr/>
            <p:nvPr/>
          </p:nvSpPr>
          <p:spPr>
            <a:xfrm rot="5400000">
              <a:off x="278100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 rot="5400000">
              <a:off x="278100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 row by 3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2 * 3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25909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64771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2590560" y="83808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 flipH="1">
            <a:off x="2590560" y="373392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 row by 6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 * 6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8580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1337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5053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48769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2485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76201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53352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2"/>
          <p:cNvSpPr/>
          <p:nvPr/>
        </p:nvSpPr>
        <p:spPr>
          <a:xfrm>
            <a:off x="868680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533520" y="25909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4419720" y="457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"/>
          <p:cNvSpPr/>
          <p:nvPr/>
        </p:nvSpPr>
        <p:spPr>
          <a:xfrm>
            <a:off x="4419720" y="1219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419720" y="1981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419720" y="2743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419720" y="3505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419720" y="4267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528560" y="50371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 row by 1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506400" y="602784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 * 1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411480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2"/>
          <p:cNvSpPr/>
          <p:nvPr/>
        </p:nvSpPr>
        <p:spPr>
          <a:xfrm>
            <a:off x="518148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3"/>
          <p:cNvSpPr/>
          <p:nvPr/>
        </p:nvSpPr>
        <p:spPr>
          <a:xfrm>
            <a:off x="4114800" y="30492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4191120" y="502920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460960" y="439416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ry this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219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66688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66688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219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66688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1148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1148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41148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4864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54864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4864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934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711360" y="4495680"/>
            <a:ext cx="81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 row by ____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008080" y="5875200"/>
            <a:ext cx="49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____ * ____ =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9954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41958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22906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94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5569560" y="5334120"/>
            <a:ext cx="13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56:37Z</dcterms:created>
  <dc:creator>Valued Acer Customer</dc:creator>
  <dc:description/>
  <dc:language>en-US</dc:language>
  <cp:lastModifiedBy>Valued Acer Customer</cp:lastModifiedBy>
  <dcterms:modified xsi:type="dcterms:W3CDTF">2010-09-10T18:57:33Z</dcterms:modified>
  <cp:revision>4</cp:revision>
  <dc:subject/>
  <dc:title>Slide 1</dc:title>
</cp:coreProperties>
</file>