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971F-2E06-4E6E-9C30-6FBDEDC06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C5BE-1BD8-43FA-8740-92888AA0A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2A02-FD51-40B2-9D5B-F6AE62D78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41C6-06A2-4668-BFFB-4F202E701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F4A7-D70D-4C83-9712-516272C63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C8A9-7396-4A13-B51F-E0D6D5B1F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70E4-190D-412E-BE76-1DFAC5D67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D272-BD51-4B5E-A924-A265A37F8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8FAD-090C-4280-80BA-7342CE99B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3CBA-23D2-4D13-8D9F-6023F588C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7F79-1D8B-4BD1-9BCA-5593C9B9E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D195-783F-4517-A85F-D9C58ADBA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C9DA-3F87-4D98-9898-3F2CC31F5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87C6-BB71-4472-8A39-E61BFEB8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1BB-CCA8-4404-8E5B-8A88C4E5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E88-1FF6-47B5-85E0-E5240B39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B6F-32C1-44A8-AAB5-513DC1DA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B179-2E03-4A0B-B1FC-C38E1135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4FC-8A5F-49CB-817A-63B31419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8022-E70C-471A-897A-ABF0E7EC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BF5-081E-41B5-B044-7B0E100F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9F68-38AD-4823-B5CA-9977669C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3CC8-4F22-4DD2-9C67-4D3F7153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E57-76B0-40B3-9DEE-C6899557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054E-9B36-47BC-A89B-39D93B94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FC87-E003-4E46-B0FB-AECEDA056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Scan_Pic0001.jpg"/>
          <p:cNvPicPr/>
          <p:nvPr/>
        </p:nvPicPr>
        <p:blipFill>
          <a:blip r:embed="rId1"/>
          <a:srcRect l="2629" t="0" r="4160" b="8891"/>
          <a:stretch/>
        </p:blipFill>
        <p:spPr>
          <a:xfrm>
            <a:off x="2057400" y="0"/>
            <a:ext cx="510552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everyday math journal 1.2 p7.jpg"/>
          <p:cNvPicPr/>
          <p:nvPr/>
        </p:nvPicPr>
        <p:blipFill>
          <a:blip r:embed="rId1"/>
          <a:srcRect l="8026" t="11773" r="23558" b="72674"/>
          <a:stretch/>
        </p:blipFill>
        <p:spPr>
          <a:xfrm>
            <a:off x="0" y="533520"/>
            <a:ext cx="9144000" cy="28591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789480" y="5414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541960" y="5414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199400" y="54144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768600" y="11509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2521440" y="11509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178880" y="115092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630720" y="183672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2465640" y="18367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4294440" y="18367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618120" y="2522520"/>
            <a:ext cx="14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64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2453040" y="25225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6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4281840" y="25225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8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everyday math journal 1.2 p7.jpg"/>
          <p:cNvPicPr/>
          <p:nvPr/>
        </p:nvPicPr>
        <p:blipFill>
          <a:blip r:embed="rId1"/>
          <a:srcRect l="5178" t="27328" r="53629" b="61835"/>
          <a:stretch/>
        </p:blipFill>
        <p:spPr>
          <a:xfrm>
            <a:off x="0" y="0"/>
            <a:ext cx="8001000" cy="2895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everyday math journal 1.2 p6.jpg"/>
          <p:cNvPicPr/>
          <p:nvPr/>
        </p:nvPicPr>
        <p:blipFill>
          <a:blip r:embed="rId2"/>
          <a:srcRect l="46875" t="52402" r="31226" b="32761"/>
          <a:stretch/>
        </p:blipFill>
        <p:spPr>
          <a:xfrm>
            <a:off x="210960" y="3144960"/>
            <a:ext cx="3903840" cy="3636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veryday math journal 1.2 p6.jpg"/>
          <p:cNvPicPr/>
          <p:nvPr/>
        </p:nvPicPr>
        <p:blipFill>
          <a:blip r:embed="rId3"/>
          <a:srcRect l="45652" t="67886" r="31346" b="17779"/>
          <a:stretch/>
        </p:blipFill>
        <p:spPr>
          <a:xfrm>
            <a:off x="4876920" y="3124080"/>
            <a:ext cx="4267080" cy="36576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2901240" y="828720"/>
            <a:ext cx="8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901240" y="1752480"/>
            <a:ext cx="8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988640" y="236232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mit #4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Scan_Pic0004.jpg"/>
          <p:cNvPicPr/>
          <p:nvPr/>
        </p:nvPicPr>
        <p:blipFill>
          <a:blip r:embed="rId1"/>
          <a:srcRect l="5646" t="3082" r="61098" b="81723"/>
          <a:stretch/>
        </p:blipFill>
        <p:spPr>
          <a:xfrm>
            <a:off x="0" y="0"/>
            <a:ext cx="9144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Scan_Pic0001.jpg"/>
          <p:cNvPicPr/>
          <p:nvPr/>
        </p:nvPicPr>
        <p:blipFill>
          <a:blip r:embed="rId1"/>
          <a:srcRect l="3246" t="37918" r="46920" b="43796"/>
          <a:stretch/>
        </p:blipFill>
        <p:spPr>
          <a:xfrm>
            <a:off x="0" y="609480"/>
            <a:ext cx="5105520" cy="2576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Scan_Pic0001.jpg"/>
          <p:cNvPicPr/>
          <p:nvPr/>
        </p:nvPicPr>
        <p:blipFill>
          <a:blip r:embed="rId2"/>
          <a:srcRect l="53083" t="37918" r="7499" b="43796"/>
          <a:stretch/>
        </p:blipFill>
        <p:spPr>
          <a:xfrm>
            <a:off x="5105520" y="609480"/>
            <a:ext cx="4038480" cy="257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Scan_Pic0004.jpg"/>
          <p:cNvPicPr/>
          <p:nvPr/>
        </p:nvPicPr>
        <p:blipFill>
          <a:blip r:embed="rId3"/>
          <a:srcRect l="23983" t="18836" r="61019" b="74704"/>
          <a:stretch/>
        </p:blipFill>
        <p:spPr>
          <a:xfrm>
            <a:off x="5029200" y="68580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can_Pic0001.jpg"/>
          <p:cNvPicPr/>
          <p:nvPr/>
        </p:nvPicPr>
        <p:blipFill>
          <a:blip r:embed="rId1"/>
          <a:srcRect l="4178" t="56476" r="6405" b="11321"/>
          <a:stretch/>
        </p:blipFill>
        <p:spPr>
          <a:xfrm>
            <a:off x="228600" y="533520"/>
            <a:ext cx="876924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23280" y="91440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19080" y="1106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*6=1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849240" y="1897200"/>
            <a:ext cx="23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3 * 6 =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Scan_Pic0001.jpg"/>
          <p:cNvPicPr/>
          <p:nvPr/>
        </p:nvPicPr>
        <p:blipFill>
          <a:blip r:embed="rId1"/>
          <a:srcRect l="4178" t="56476" r="49201" b="11321"/>
          <a:stretch/>
        </p:blipFill>
        <p:spPr>
          <a:xfrm>
            <a:off x="228600" y="533520"/>
            <a:ext cx="4572000" cy="43434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1223280" y="91440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849240" y="1897200"/>
            <a:ext cx="23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3 * 6 =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Scan_Pic0004.jpg"/>
          <p:cNvPicPr/>
          <p:nvPr/>
        </p:nvPicPr>
        <p:blipFill>
          <a:blip r:embed="rId2"/>
          <a:srcRect l="23441" t="25117" r="61311" b="62991"/>
          <a:stretch/>
        </p:blipFill>
        <p:spPr>
          <a:xfrm>
            <a:off x="4800600" y="463680"/>
            <a:ext cx="41148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veryday math journal 1.2 p6.jpg"/>
          <p:cNvPicPr/>
          <p:nvPr/>
        </p:nvPicPr>
        <p:blipFill>
          <a:blip r:embed="rId1"/>
          <a:srcRect l="2626" t="6666" r="2626" b="3331"/>
          <a:stretch/>
        </p:blipFill>
        <p:spPr>
          <a:xfrm>
            <a:off x="2133720" y="0"/>
            <a:ext cx="518148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everyday math journal 1.2 p6.jpg"/>
          <p:cNvPicPr/>
          <p:nvPr/>
        </p:nvPicPr>
        <p:blipFill>
          <a:blip r:embed="rId1"/>
          <a:srcRect l="2630" t="6667" r="2630" b="50786"/>
          <a:stretch/>
        </p:blipFill>
        <p:spPr>
          <a:xfrm>
            <a:off x="304920" y="0"/>
            <a:ext cx="883908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veryday math journal 1.2 p6.jpg"/>
          <p:cNvPicPr/>
          <p:nvPr/>
        </p:nvPicPr>
        <p:blipFill>
          <a:blip r:embed="rId1"/>
          <a:srcRect l="5603" t="49216" r="31361" b="17488"/>
          <a:stretch/>
        </p:blipFill>
        <p:spPr>
          <a:xfrm>
            <a:off x="0" y="152280"/>
            <a:ext cx="8915400" cy="6477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1148040" y="53352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2595960" y="53352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3789720" y="5335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1148040" y="1227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2595960" y="1227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3789720" y="12272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997200" y="19130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2595960" y="19130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3919680" y="19130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997200" y="267480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2595960" y="267480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6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919680" y="267480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997200" y="35132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2595960" y="35132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3816720" y="35132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8"/>
          <p:cNvSpPr/>
          <p:nvPr/>
        </p:nvSpPr>
        <p:spPr>
          <a:xfrm>
            <a:off x="1100520" y="41990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9"/>
          <p:cNvSpPr/>
          <p:nvPr/>
        </p:nvSpPr>
        <p:spPr>
          <a:xfrm>
            <a:off x="2445120" y="41990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0"/>
          <p:cNvSpPr/>
          <p:nvPr/>
        </p:nvSpPr>
        <p:spPr>
          <a:xfrm>
            <a:off x="3816720" y="41990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>
            <a:off x="997200" y="48848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2595960" y="48848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3816720" y="48848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4"/>
          <p:cNvSpPr/>
          <p:nvPr/>
        </p:nvSpPr>
        <p:spPr>
          <a:xfrm>
            <a:off x="997200" y="55706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5"/>
          <p:cNvSpPr/>
          <p:nvPr/>
        </p:nvSpPr>
        <p:spPr>
          <a:xfrm>
            <a:off x="2368800" y="557064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9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6"/>
          <p:cNvSpPr/>
          <p:nvPr/>
        </p:nvSpPr>
        <p:spPr>
          <a:xfrm>
            <a:off x="3919680" y="5570640"/>
            <a:ext cx="79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everyday math journal 1.2 p7.jpg"/>
          <p:cNvPicPr/>
          <p:nvPr/>
        </p:nvPicPr>
        <p:blipFill>
          <a:blip r:embed="rId1"/>
          <a:srcRect l="4003" t="2996" r="2628" b="7779"/>
          <a:stretch/>
        </p:blipFill>
        <p:spPr>
          <a:xfrm>
            <a:off x="1981080" y="47520"/>
            <a:ext cx="518184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8:39:40Z</dcterms:created>
  <dc:creator>Valued Acer Customer</dc:creator>
  <dc:description/>
  <dc:language>en-US</dc:language>
  <cp:lastModifiedBy>Valued Acer Customer</cp:lastModifiedBy>
  <dcterms:modified xsi:type="dcterms:W3CDTF">2010-09-09T09:33:42Z</dcterms:modified>
  <cp:revision>2</cp:revision>
  <dc:subject/>
  <dc:title>Slide 1</dc:title>
</cp:coreProperties>
</file>