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CAC9-0CF0-484E-9B63-EDACA8193B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800C-7324-4104-8335-68CF0EF5D3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4142-56EC-4339-8E4F-0D59B7FA45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1E83-EAF1-486B-9B38-6FE30EA225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0B55-0DD3-4B84-9D1C-E1909FDA5F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C1A2-3A04-4561-A3A7-AAAED2587B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7BAF-A326-4623-AC3A-67BFD1A48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FD8D-26EF-4C3C-897F-EB3DF8DD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4D66-537A-4539-A556-A1159F817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E897-8171-4391-BC20-AD6F26040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2E89-D6BF-4766-A446-CFD57966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8B25-C473-4B59-B849-6CB347A6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5114-6C0F-457E-9DEF-C95C242C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6F7E-C73E-4480-AF93-70F5250E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E8E1-57C0-438B-B3CB-41DBDFB4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09C9-E47F-4A93-B37C-8F913AAC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4978-99F8-4F00-95E5-447F7AB1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1F60-2BB6-4590-88FB-AD7E8158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B0F6-055C-4678-8C7B-724160F3F7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everyday math TE p25 1.2.jpg"/>
          <p:cNvPicPr/>
          <p:nvPr/>
        </p:nvPicPr>
        <p:blipFill>
          <a:blip r:embed="rId1"/>
          <a:srcRect l="61295" t="62106" r="21997" b="28021"/>
          <a:stretch/>
        </p:blipFill>
        <p:spPr>
          <a:xfrm>
            <a:off x="457200" y="76320"/>
            <a:ext cx="7924680" cy="64389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962520" y="1905120"/>
            <a:ext cx="9144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962520" y="2743200"/>
            <a:ext cx="9144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962520" y="3581280"/>
            <a:ext cx="91440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3962520" y="4419720"/>
            <a:ext cx="9144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1096200" y="5181480"/>
            <a:ext cx="598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Calibri"/>
              </a:rPr>
              <a:t>1, 4, 5, 6, 8, 8, 10, 1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Up Arrow 8"/>
          <p:cNvSpPr/>
          <p:nvPr/>
        </p:nvSpPr>
        <p:spPr>
          <a:xfrm>
            <a:off x="3429000" y="6019920"/>
            <a:ext cx="685800" cy="6094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everyday math TE p25 1.2.jpg"/>
          <p:cNvPicPr/>
          <p:nvPr/>
        </p:nvPicPr>
        <p:blipFill>
          <a:blip r:embed="rId1"/>
          <a:srcRect l="78005" t="62486" r="5807" b="28403"/>
          <a:stretch/>
        </p:blipFill>
        <p:spPr>
          <a:xfrm>
            <a:off x="228600" y="0"/>
            <a:ext cx="8534520" cy="66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everyday math TE p25 1.2.jpg"/>
          <p:cNvPicPr/>
          <p:nvPr/>
        </p:nvPicPr>
        <p:blipFill>
          <a:blip r:embed="rId1"/>
          <a:srcRect l="61295" t="71599" r="21474" b="18909"/>
          <a:stretch/>
        </p:blipFill>
        <p:spPr>
          <a:xfrm>
            <a:off x="0" y="0"/>
            <a:ext cx="90518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4343400" y="1447920"/>
            <a:ext cx="3962520" cy="1371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4343400" y="3276720"/>
            <a:ext cx="3124080" cy="259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everyday math TE p25 1.2.jpg"/>
          <p:cNvPicPr/>
          <p:nvPr/>
        </p:nvPicPr>
        <p:blipFill>
          <a:blip r:embed="rId1"/>
          <a:srcRect l="78005" t="71683" r="5807" b="18529"/>
          <a:stretch/>
        </p:blipFill>
        <p:spPr>
          <a:xfrm>
            <a:off x="152280" y="0"/>
            <a:ext cx="7925040" cy="65912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1828800" y="1600200"/>
            <a:ext cx="22096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676520" y="3657600"/>
            <a:ext cx="236196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everyday math TE p25 1.2.jpg"/>
          <p:cNvPicPr/>
          <p:nvPr/>
        </p:nvPicPr>
        <p:blipFill>
          <a:blip r:embed="rId1"/>
          <a:srcRect l="62420" t="81093" r="10587" b="17574"/>
          <a:stretch/>
        </p:blipFill>
        <p:spPr>
          <a:xfrm>
            <a:off x="76320" y="76320"/>
            <a:ext cx="8961480" cy="609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everyday math TE p25 1.2.jpg"/>
          <p:cNvPicPr/>
          <p:nvPr/>
        </p:nvPicPr>
        <p:blipFill>
          <a:blip r:embed="rId2"/>
          <a:srcRect l="72060" t="82428" r="15545" b="16321"/>
          <a:stretch/>
        </p:blipFill>
        <p:spPr>
          <a:xfrm>
            <a:off x="533520" y="1066680"/>
            <a:ext cx="822960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everyday math TE p25 1.2.jpg"/>
          <p:cNvPicPr/>
          <p:nvPr/>
        </p:nvPicPr>
        <p:blipFill>
          <a:blip r:embed="rId3"/>
          <a:srcRect l="70684" t="86435" r="15085" b="11135"/>
          <a:stretch/>
        </p:blipFill>
        <p:spPr>
          <a:xfrm>
            <a:off x="609480" y="3962520"/>
            <a:ext cx="7782120" cy="1828800"/>
          </a:xfrm>
          <a:prstGeom prst="rect">
            <a:avLst/>
          </a:prstGeom>
          <a:ln w="0">
            <a:noFill/>
          </a:ln>
        </p:spPr>
      </p:pic>
      <p:cxnSp>
        <p:nvCxnSpPr>
          <p:cNvPr id="65" name="Straight Arrow Connector 10"/>
          <p:cNvCxnSpPr/>
          <p:nvPr/>
        </p:nvCxnSpPr>
        <p:spPr>
          <a:xfrm>
            <a:off x="1066320" y="2133360"/>
            <a:ext cx="3963240" cy="19054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" name="Straight Arrow Connector 12"/>
          <p:cNvCxnSpPr/>
          <p:nvPr/>
        </p:nvCxnSpPr>
        <p:spPr>
          <a:xfrm>
            <a:off x="3276720" y="2286000"/>
            <a:ext cx="305280" cy="17532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7" name="Straight Arrow Connector 15"/>
          <p:cNvCxnSpPr/>
          <p:nvPr/>
        </p:nvCxnSpPr>
        <p:spPr>
          <a:xfrm>
            <a:off x="5715000" y="2286000"/>
            <a:ext cx="1448640" cy="17532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8" name="Straight Arrow Connector 17"/>
          <p:cNvCxnSpPr/>
          <p:nvPr/>
        </p:nvCxnSpPr>
        <p:spPr>
          <a:xfrm flipH="1">
            <a:off x="2209320" y="2286000"/>
            <a:ext cx="5487120" cy="18295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9:35:44Z</dcterms:created>
  <dc:creator>Valued Acer Customer</dc:creator>
  <dc:description/>
  <dc:language>en-US</dc:language>
  <cp:lastModifiedBy>Valued Acer Customer</cp:lastModifiedBy>
  <dcterms:modified xsi:type="dcterms:W3CDTF">2010-09-09T09:58:20Z</dcterms:modified>
  <cp:revision>2</cp:revision>
  <dc:subject/>
  <dc:title>Slide 1</dc:title>
</cp:coreProperties>
</file>