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5726-F753-4DAD-BF41-044540C42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25D7-BCBB-42A6-AC5A-92EE1F0EE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00EC-175C-4189-AD03-D344AA278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1718-286D-495B-B30F-EA4E72E29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8CCD-7657-453D-88BB-5D66F3F5D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7A62-46E5-441F-BD37-ECFA0E2DD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080A-09DD-42D2-AE7F-9C20B4713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6FBD-7F75-4157-8703-4536E164A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3389-3427-4449-ADF8-835B20585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FC9-AEC1-4103-B78B-D3F2594B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F26-C655-4548-992F-9CB9700D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27E-63B7-4F42-959C-AC1E1A12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4CD-D415-478E-BE95-0FE34579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82E-C255-4D26-A651-CD87E311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36D-680E-487A-8E0D-294CAE42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260-21C0-4E58-87D2-7FE6C772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300-B9F2-43EE-B3E6-92B883A8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829-32BC-4423-8C03-A9591B12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4D6-8DC0-4F57-8437-10D633A6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F60-97CF-4208-82DE-C7CF2AB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1D6-6C9A-433B-AD6B-C829225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416A-7B37-465D-B1A1-04CA2A2B9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veryday math boxes 1.1.jpg"/>
          <p:cNvPicPr/>
          <p:nvPr/>
        </p:nvPicPr>
        <p:blipFill>
          <a:blip r:embed="rId1"/>
          <a:srcRect l="53069" t="13700" r="12531" b="70639"/>
          <a:stretch/>
        </p:blipFill>
        <p:spPr>
          <a:xfrm>
            <a:off x="609480" y="0"/>
            <a:ext cx="6096240" cy="3713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53268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2312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059920" y="3505320"/>
            <a:ext cx="3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297440" y="3505320"/>
            <a:ext cx="31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217760" y="3505320"/>
            <a:ext cx="39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987080" y="3505320"/>
            <a:ext cx="317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786560" y="240984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14660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9087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10076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2803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267048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boxes 1.1.jpg"/>
          <p:cNvPicPr/>
          <p:nvPr/>
        </p:nvPicPr>
        <p:blipFill>
          <a:blip r:embed="rId1"/>
          <a:srcRect l="4569" t="42114" r="55656" b="45189"/>
          <a:stretch/>
        </p:blipFill>
        <p:spPr>
          <a:xfrm>
            <a:off x="380880" y="685800"/>
            <a:ext cx="78487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02240" y="274320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1*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999720" y="39052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2*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999720" y="497196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3*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6856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1 , 2 , 3 , 4 , 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veryday math boxes 1.1.jpg"/>
          <p:cNvPicPr/>
          <p:nvPr/>
        </p:nvPicPr>
        <p:blipFill>
          <a:blip r:embed="rId1"/>
          <a:srcRect l="51978" t="42397" r="3695" b="38280"/>
          <a:stretch/>
        </p:blipFill>
        <p:spPr>
          <a:xfrm>
            <a:off x="380880" y="380880"/>
            <a:ext cx="78375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084680" y="11430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2 * 7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084680" y="19242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7 * 2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83960" y="268596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2 = 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21442" t="25511" r="17354" b="9179"/>
          <a:stretch/>
        </p:blipFill>
        <p:spPr>
          <a:xfrm>
            <a:off x="2185920" y="28954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083960" y="352440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7 =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rcRect l="21442" t="25511" r="17354" b="9179"/>
          <a:stretch/>
        </p:blipFill>
        <p:spPr>
          <a:xfrm>
            <a:off x="2185920" y="373392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everyday math boxes 1.1.jpg"/>
          <p:cNvPicPr/>
          <p:nvPr/>
        </p:nvPicPr>
        <p:blipFill>
          <a:blip r:embed="rId1"/>
          <a:srcRect l="4001" t="69273" r="53011" b="15376"/>
          <a:stretch/>
        </p:blipFill>
        <p:spPr>
          <a:xfrm>
            <a:off x="457200" y="73080"/>
            <a:ext cx="6705720" cy="3203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19956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772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498200" y="3124080"/>
            <a:ext cx="37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615120" y="3124080"/>
            <a:ext cx="34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4440" y="3124080"/>
            <a:ext cx="48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985040" y="3124080"/>
            <a:ext cx="64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145880" y="3124080"/>
            <a:ext cx="470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6175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99432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7291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8910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4912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43293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167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veryday math boxes 1.1.jpg"/>
          <p:cNvPicPr/>
          <p:nvPr/>
        </p:nvPicPr>
        <p:blipFill>
          <a:blip r:embed="rId1"/>
          <a:srcRect l="51816" t="69972" r="10144" b="18279"/>
          <a:stretch/>
        </p:blipFill>
        <p:spPr>
          <a:xfrm>
            <a:off x="609480" y="609480"/>
            <a:ext cx="792792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343224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241800" y="125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12768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36880" y="1295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2276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everyday math boxes 1.1.jpg"/>
          <p:cNvPicPr/>
          <p:nvPr/>
        </p:nvPicPr>
        <p:blipFill>
          <a:blip r:embed="rId1"/>
          <a:srcRect l="51816" t="69972" r="37582" b="27846"/>
          <a:stretch/>
        </p:blipFill>
        <p:spPr>
          <a:xfrm>
            <a:off x="609480" y="609480"/>
            <a:ext cx="221004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veryday math boxes 1.1.jpg"/>
          <p:cNvPicPr/>
          <p:nvPr/>
        </p:nvPicPr>
        <p:blipFill>
          <a:blip r:embed="rId2"/>
          <a:srcRect l="76681" t="73525" r="11980" b="20969"/>
          <a:stretch/>
        </p:blipFill>
        <p:spPr>
          <a:xfrm>
            <a:off x="3352680" y="1219320"/>
            <a:ext cx="5181840" cy="336708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4"/>
          <p:cNvSpPr/>
          <p:nvPr/>
        </p:nvSpPr>
        <p:spPr>
          <a:xfrm>
            <a:off x="6705720" y="17524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669360" y="11509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015320" y="12193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7"/>
          <p:cNvSpPr/>
          <p:nvPr/>
        </p:nvSpPr>
        <p:spPr>
          <a:xfrm>
            <a:off x="723888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7162920" y="12952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166160" y="6937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0"/>
          <p:cNvSpPr/>
          <p:nvPr/>
        </p:nvSpPr>
        <p:spPr>
          <a:xfrm>
            <a:off x="784872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781380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699680" y="404640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7148880" y="40384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2:15:17Z</dcterms:created>
  <dc:creator>Valued Acer Customer</dc:creator>
  <dc:description/>
  <dc:language>en-US</dc:language>
  <cp:lastModifiedBy>Valued Acer Customer</cp:lastModifiedBy>
  <dcterms:modified xsi:type="dcterms:W3CDTF">2010-09-08T23:02:58Z</dcterms:modified>
  <cp:revision>4</cp:revision>
  <dc:subject/>
  <dc:title>Slide 1</dc:title>
</cp:coreProperties>
</file>