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7BE1-1344-409A-B914-C37078710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1358-5CB6-4F87-9A84-0C4BCAAE8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D661-EEDC-4A37-96E6-4FF1D96DA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C88D-4495-4694-865C-054A0A781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E81-4291-42A9-B885-54237FFBF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253-B054-466A-8857-0C13C429B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E532-A0C9-4A11-A100-22F9F9FB8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EF6-8653-4E58-8903-23FE6DA82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5383-E6A3-4AD5-A0B2-AEACF8CEE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2C6-BD20-4B6F-B50A-AF1E0688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FFE-E928-404A-AF55-71FDB83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C4F-A751-4F4F-AB1D-2D30996C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561-B5EC-48BE-8BBD-169E7485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03C-5D5B-434B-9AED-7FCEA59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856-FE10-4001-926E-605D09D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6DB-5C38-4CA9-BD9C-196F8AA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917-E6FC-485D-8307-7614293C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828-63C8-448A-BB90-3A23CAC5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D8B-9712-4BB6-B58E-68CCE46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91F-77D5-4C7E-BF0A-8E95883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4BF-C307-412B-8E91-91B491E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9D5-1ADA-433B-89B9-28F8B3CAA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veryday math boxes 1.1.jpg"/>
          <p:cNvPicPr/>
          <p:nvPr/>
        </p:nvPicPr>
        <p:blipFill>
          <a:blip r:embed="rId1"/>
          <a:srcRect l="53069" t="13700" r="12531" b="70639"/>
          <a:stretch/>
        </p:blipFill>
        <p:spPr>
          <a:xfrm>
            <a:off x="609480" y="0"/>
            <a:ext cx="6096240" cy="3713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3268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23120" y="350532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059920" y="3505320"/>
            <a:ext cx="3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297440" y="3505320"/>
            <a:ext cx="31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17760" y="3505320"/>
            <a:ext cx="39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987080" y="3505320"/>
            <a:ext cx="317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786560" y="240984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14660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19087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410076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28032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670480" y="24382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boxes 1.1.jpg"/>
          <p:cNvPicPr/>
          <p:nvPr/>
        </p:nvPicPr>
        <p:blipFill>
          <a:blip r:embed="rId1"/>
          <a:srcRect l="4569" t="42114" r="55656" b="45189"/>
          <a:stretch/>
        </p:blipFill>
        <p:spPr>
          <a:xfrm>
            <a:off x="380880" y="685800"/>
            <a:ext cx="78487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02240" y="27432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1*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999720" y="39052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2*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99720" y="497196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3*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6856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1 , 2 , 3 , 4 ,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everyday math boxes 1.1.jpg"/>
          <p:cNvPicPr/>
          <p:nvPr/>
        </p:nvPicPr>
        <p:blipFill>
          <a:blip r:embed="rId1"/>
          <a:srcRect l="51978" t="42397" r="3695" b="38280"/>
          <a:stretch/>
        </p:blipFill>
        <p:spPr>
          <a:xfrm>
            <a:off x="380880" y="380880"/>
            <a:ext cx="7837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084680" y="11430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2 * 7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084680" y="1924200"/>
            <a:ext cx="37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7 * 2 =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83960" y="268596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2 =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21442" t="25511" r="17354" b="9179"/>
          <a:stretch/>
        </p:blipFill>
        <p:spPr>
          <a:xfrm>
            <a:off x="2185920" y="2895480"/>
            <a:ext cx="785880" cy="83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083960" y="352440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4     7 =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rcRect l="21442" t="25511" r="17354" b="9179"/>
          <a:stretch/>
        </p:blipFill>
        <p:spPr>
          <a:xfrm>
            <a:off x="2185920" y="3733920"/>
            <a:ext cx="7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veryday math boxes 1.1.jpg"/>
          <p:cNvPicPr/>
          <p:nvPr/>
        </p:nvPicPr>
        <p:blipFill>
          <a:blip r:embed="rId1"/>
          <a:srcRect l="4001" t="69273" r="53011" b="15376"/>
          <a:stretch/>
        </p:blipFill>
        <p:spPr>
          <a:xfrm>
            <a:off x="457200" y="73080"/>
            <a:ext cx="6705720" cy="32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19956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7720" y="3124080"/>
            <a:ext cx="42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498200" y="3124080"/>
            <a:ext cx="37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615120" y="3124080"/>
            <a:ext cx="3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854440" y="3124080"/>
            <a:ext cx="48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85040" y="3124080"/>
            <a:ext cx="64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145880" y="3124080"/>
            <a:ext cx="47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6175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99432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7291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8910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49128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32936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167800" y="19810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veryday math boxes 1.1.jpg"/>
          <p:cNvPicPr/>
          <p:nvPr/>
        </p:nvPicPr>
        <p:blipFill>
          <a:blip r:embed="rId1"/>
          <a:srcRect l="51816" t="69972" r="10144" b="18279"/>
          <a:stretch/>
        </p:blipFill>
        <p:spPr>
          <a:xfrm>
            <a:off x="609480" y="609480"/>
            <a:ext cx="79279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343224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241800" y="125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12768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36880" y="1295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22760" y="335268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everyday math boxes 1.1.jpg"/>
          <p:cNvPicPr/>
          <p:nvPr/>
        </p:nvPicPr>
        <p:blipFill>
          <a:blip r:embed="rId1"/>
          <a:srcRect l="51816" t="69972" r="37582" b="27846"/>
          <a:stretch/>
        </p:blipFill>
        <p:spPr>
          <a:xfrm>
            <a:off x="609480" y="609480"/>
            <a:ext cx="221004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veryday math boxes 1.1.jpg"/>
          <p:cNvPicPr/>
          <p:nvPr/>
        </p:nvPicPr>
        <p:blipFill>
          <a:blip r:embed="rId2"/>
          <a:srcRect l="76681" t="73525" r="11980" b="20969"/>
          <a:stretch/>
        </p:blipFill>
        <p:spPr>
          <a:xfrm>
            <a:off x="3352680" y="1219320"/>
            <a:ext cx="5181840" cy="336708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6705720" y="17524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669360" y="11509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015320" y="12193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7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7162920" y="129528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166160" y="6937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0"/>
          <p:cNvSpPr/>
          <p:nvPr/>
        </p:nvSpPr>
        <p:spPr>
          <a:xfrm>
            <a:off x="7848720" y="1828800"/>
            <a:ext cx="457200" cy="685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781380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699680" y="404640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8880" y="403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everyday math boxes 1.1.jpg"/>
          <p:cNvPicPr/>
          <p:nvPr/>
        </p:nvPicPr>
        <p:blipFill>
          <a:blip r:embed="rId1"/>
          <a:stretch/>
        </p:blipFill>
        <p:spPr>
          <a:xfrm>
            <a:off x="2057400" y="304920"/>
            <a:ext cx="4467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15:17Z</dcterms:created>
  <dc:creator>Valued Acer Customer</dc:creator>
  <dc:description/>
  <dc:language>en-US</dc:language>
  <cp:lastModifiedBy>Valued Acer Customer</cp:lastModifiedBy>
  <dcterms:modified xsi:type="dcterms:W3CDTF">2010-09-08T23:02:58Z</dcterms:modified>
  <cp:revision>4</cp:revision>
  <dc:subject/>
  <dc:title>Slide 1</dc:title>
</cp:coreProperties>
</file>