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F052-4301-420D-849D-DD40E352A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2980-E122-4B8F-925B-44EB3C294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D704-BE0D-4020-A125-BF265EC02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38BD-A766-4D3A-AFE3-772B87E7C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812C-17C0-41C5-862A-0E4258732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1777-0EE4-4B74-ABCC-3AB1133EA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5C94-F930-4049-B777-89E473404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B8CB-7371-45B8-AB54-3A31D9C9D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CB00-A2A2-47B8-AF4E-665A4353B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464A-543E-4705-8EFA-969B8EA70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B47-511A-4735-890E-846F3E5A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726-9450-41C6-91EB-1391268E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CF5-9FBC-4804-B6DD-7F0435A3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FB1-80BC-4C71-93C0-275F978B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7DD-F662-427F-829C-F12D8D97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FEC-0164-4469-8F3E-CB4C360B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74B-F7EE-4D8E-9D53-03AD3681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965-F4FD-456F-B48B-BE33C19B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CDB-B69A-40BA-AC5A-21888B82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755-525D-4664-8682-98A5CB15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1B2-5380-40EF-A357-3941152B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3C2-5F1B-4658-9B27-22F5B93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3EDC-DCBC-448D-8519-02B8E971C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0176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42960" y="3657600"/>
            <a:ext cx="776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using rows and colum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o make rectangle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nd multiplica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781640" y="7632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697120" y="7632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821040" y="76320"/>
            <a:ext cx="93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738800" y="1254240"/>
            <a:ext cx="62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757160" y="2016000"/>
            <a:ext cx="7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832400" y="2778120"/>
            <a:ext cx="53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757520" y="3540240"/>
            <a:ext cx="72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681560" y="4302000"/>
            <a:ext cx="91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757880" y="5140440"/>
            <a:ext cx="73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11"/>
          <p:cNvSpPr/>
          <p:nvPr/>
        </p:nvSpPr>
        <p:spPr>
          <a:xfrm>
            <a:off x="5105520" y="380880"/>
            <a:ext cx="32004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2"/>
          <p:cNvSpPr/>
          <p:nvPr/>
        </p:nvSpPr>
        <p:spPr>
          <a:xfrm rot="5400000">
            <a:off x="1218960" y="3504960"/>
            <a:ext cx="4419720" cy="6098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856800" y="247680"/>
            <a:ext cx="75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alibri"/>
              </a:rPr>
              <a:t>rectangular arrays fo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"/>
          <p:cNvSpPr/>
          <p:nvPr/>
        </p:nvSpPr>
        <p:spPr>
          <a:xfrm>
            <a:off x="335268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4800600" y="533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35268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800600" y="182880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335268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800600" y="31240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 row by 2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3 * 2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0"/>
          <p:cNvSpPr/>
          <p:nvPr/>
        </p:nvSpPr>
        <p:spPr>
          <a:xfrm>
            <a:off x="2895480" y="380880"/>
            <a:ext cx="7632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6019200" y="380880"/>
            <a:ext cx="75960" cy="3810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2"/>
          <p:cNvSpPr/>
          <p:nvPr/>
        </p:nvSpPr>
        <p:spPr>
          <a:xfrm flipH="1">
            <a:off x="2895120" y="380880"/>
            <a:ext cx="312444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"/>
          <p:cNvSpPr/>
          <p:nvPr/>
        </p:nvSpPr>
        <p:spPr>
          <a:xfrm flipH="1">
            <a:off x="2971800" y="4191120"/>
            <a:ext cx="31240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7"/>
          <p:cNvGrpSpPr/>
          <p:nvPr/>
        </p:nvGrpSpPr>
        <p:grpSpPr>
          <a:xfrm>
            <a:off x="2781000" y="1104840"/>
            <a:ext cx="3505320" cy="2362320"/>
            <a:chOff x="2781000" y="1104840"/>
            <a:chExt cx="3505320" cy="2362320"/>
          </a:xfrm>
        </p:grpSpPr>
        <p:sp>
          <p:nvSpPr>
            <p:cNvPr id="77" name="Oval 1"/>
            <p:cNvSpPr/>
            <p:nvPr/>
          </p:nvSpPr>
          <p:spPr>
            <a:xfrm rot="5400000">
              <a:off x="537192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"/>
            <p:cNvSpPr/>
            <p:nvPr/>
          </p:nvSpPr>
          <p:spPr>
            <a:xfrm rot="5400000">
              <a:off x="537192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"/>
            <p:cNvSpPr/>
            <p:nvPr/>
          </p:nvSpPr>
          <p:spPr>
            <a:xfrm rot="5400000">
              <a:off x="407664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"/>
            <p:cNvSpPr/>
            <p:nvPr/>
          </p:nvSpPr>
          <p:spPr>
            <a:xfrm rot="5400000">
              <a:off x="407664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5"/>
            <p:cNvSpPr/>
            <p:nvPr/>
          </p:nvSpPr>
          <p:spPr>
            <a:xfrm rot="5400000">
              <a:off x="2781000" y="110484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"/>
            <p:cNvSpPr/>
            <p:nvPr/>
          </p:nvSpPr>
          <p:spPr>
            <a:xfrm rot="5400000">
              <a:off x="2781000" y="2552760"/>
              <a:ext cx="914400" cy="914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8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 row by 3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2 * 3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25909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5"/>
          <p:cNvSpPr/>
          <p:nvPr/>
        </p:nvSpPr>
        <p:spPr>
          <a:xfrm>
            <a:off x="6477120" y="838080"/>
            <a:ext cx="0" cy="28958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6"/>
          <p:cNvSpPr/>
          <p:nvPr/>
        </p:nvSpPr>
        <p:spPr>
          <a:xfrm flipH="1">
            <a:off x="2590560" y="83808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 flipH="1">
            <a:off x="2590560" y="3733920"/>
            <a:ext cx="38862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388880" y="44197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 row by 6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366720" y="54100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 * 6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68580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1337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5053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48769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62485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7620120" y="129528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53352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2"/>
          <p:cNvSpPr/>
          <p:nvPr/>
        </p:nvSpPr>
        <p:spPr>
          <a:xfrm>
            <a:off x="8686800" y="990720"/>
            <a:ext cx="0" cy="16002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3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6"/>
          <p:cNvSpPr/>
          <p:nvPr/>
        </p:nvSpPr>
        <p:spPr>
          <a:xfrm>
            <a:off x="533520" y="2590920"/>
            <a:ext cx="8153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1"/>
          <p:cNvSpPr/>
          <p:nvPr/>
        </p:nvSpPr>
        <p:spPr>
          <a:xfrm>
            <a:off x="4419720" y="457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"/>
          <p:cNvSpPr/>
          <p:nvPr/>
        </p:nvSpPr>
        <p:spPr>
          <a:xfrm>
            <a:off x="4419720" y="1219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4419720" y="1981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419720" y="274320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419720" y="3505320"/>
            <a:ext cx="533160" cy="60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4419720" y="4267080"/>
            <a:ext cx="5331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528560" y="5037120"/>
            <a:ext cx="630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6 row by 1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506400" y="602784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 * 1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411480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2"/>
          <p:cNvSpPr/>
          <p:nvPr/>
        </p:nvSpPr>
        <p:spPr>
          <a:xfrm>
            <a:off x="5181480" y="304920"/>
            <a:ext cx="76320" cy="47242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3"/>
          <p:cNvSpPr/>
          <p:nvPr/>
        </p:nvSpPr>
        <p:spPr>
          <a:xfrm>
            <a:off x="4114800" y="30492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4191120" y="5029200"/>
            <a:ext cx="10666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073520" y="2476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alibri"/>
              </a:rPr>
              <a:t>rectangular array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789000" y="1447920"/>
            <a:ext cx="1157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460960" y="439416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ry this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"/>
          <p:cNvSpPr/>
          <p:nvPr/>
        </p:nvSpPr>
        <p:spPr>
          <a:xfrm>
            <a:off x="1219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266688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1219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266688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219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266688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41148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1148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41148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48640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"/>
          <p:cNvSpPr/>
          <p:nvPr/>
        </p:nvSpPr>
        <p:spPr>
          <a:xfrm>
            <a:off x="548640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548640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6934320" y="53352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6934320" y="182880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6934320" y="3124080"/>
            <a:ext cx="914400" cy="914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711360" y="4495680"/>
            <a:ext cx="81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 row by ____ column arr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2008080" y="5875200"/>
            <a:ext cx="49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____ * ____ = 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9954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4195800" y="403848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22906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4119480" y="53355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5569560" y="5334120"/>
            <a:ext cx="131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3:56:37Z</dcterms:created>
  <dc:creator>Valued Acer Customer</dc:creator>
  <dc:description/>
  <dc:language>en-US</dc:language>
  <cp:lastModifiedBy>Valued Acer Customer</cp:lastModifiedBy>
  <dcterms:modified xsi:type="dcterms:W3CDTF">2010-09-10T18:57:33Z</dcterms:modified>
  <cp:revision>4</cp:revision>
  <dc:subject/>
  <dc:title>Slide 1</dc:title>
</cp:coreProperties>
</file>