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FD13-CF9D-487D-8DB5-72FEA395A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5C54-077B-4B2A-AE57-71457C62F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17D2-86FF-43F7-8C79-3AFD62B02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679D-B9C7-4FA2-AAE0-C976385F6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ABBA-85C9-47B3-A48A-55E66FC36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C460-E7A6-41B5-A505-1178D7075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0747-7C9C-4500-9BCB-7BC093FA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D91D-E2E9-41B1-B67C-2FCDF87F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68AE-701A-4F98-A7DA-34369BECF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E9C0-4E08-4616-8B58-7848DF99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CAB0-EE35-42E6-9A08-6EDA5C63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6417-CA14-4F8B-A772-5369630D9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F9AF-5CCC-4D9F-A15A-733FDEB2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4600-82C9-48FC-983A-DAEF2AE16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32E0-103A-4B30-A7E1-8EAD32B82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1866-88A9-4D5B-AA43-3542C8650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3B5C-7376-46AF-86E2-35A91D0D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2D5-F01E-433E-9E7B-68EF3728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6C5-3958-4236-8696-88B0BCE5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83B-FB9C-4CA8-9456-FB0DD38B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8C7-40E9-420F-B711-15E7A6A7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F73-26D9-4C92-92AB-51FC0F0C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7C7-8BB3-437F-A269-417AF5D7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3EA-98C9-4C7F-BB3C-361BB8BD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540-F5EF-40C0-8E5C-4E3F56DB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2B6-48A5-48D9-88F9-53D34C26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FDD-F76B-422B-97DF-DF2A41AF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C1B-5CFD-4F09-8BC1-B5F818E9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336-0DA3-4D39-8C27-7997C2D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6977-9A97-4EE1-8896-F7BB78933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9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63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5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1:49:36Z</dcterms:created>
  <dc:creator>.</dc:creator>
  <dc:description/>
  <dc:language>en-US</dc:language>
  <cp:lastModifiedBy>Valued Acer Customer</cp:lastModifiedBy>
  <dcterms:modified xsi:type="dcterms:W3CDTF">2010-09-10T18:55:58Z</dcterms:modified>
  <cp:revision>2</cp:revision>
  <dc:subject/>
  <dc:title>2 * 2 =</dc:title>
</cp:coreProperties>
</file>