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FE03-6816-4753-BEB8-AFDEDB34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B495-17F0-4572-8C7F-9CB107C9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9C67-F7A7-47E0-9642-1315E376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CBC0-7894-4FD9-87F2-3B98835A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A924-1ADB-4C5A-AB68-9FDA54FF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1BD-EC6C-4568-80BF-C89A4A1E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F7A3-0A88-4D9C-856F-E30299E9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C08-CC75-4776-8EEB-46219C1D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8CC-3C0F-4910-9924-C19E22CC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43A-0859-444A-8D01-5F486FB0D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F68F-FB1E-4FE2-9212-281AE27A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5E4-029D-4FC3-88AC-D966C86F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E024-AD88-4807-8330-AB569A79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5F1B-165F-4551-B229-5BEDFCDF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B0D1-4CF0-40FD-B96A-D2EFA2821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7A8-0E70-44AB-9D22-CB733D62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637-D42B-4457-A80E-62C8567C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F54-3727-4360-8C86-130E6A99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64A-B0F8-4655-B04B-98D90E6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13C-AD67-48F8-8715-86796077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755-61B7-45A8-8BC8-DE09F005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E6E-E743-48B6-B14F-C7C884B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751-24BD-4030-B504-95D9BE4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9C8-4F25-4C68-9AF4-6AF15E3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BF5-5D1F-4D5B-B177-6F35416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651-A906-49BC-AACA-738ADF1C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2B9-B771-40BA-B565-AC36185A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9FD-A936-4A42-897C-A3F2B09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455-2F3F-4849-B418-16C32B8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E495-C584-41FF-99B4-A1CF6CFA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5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3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6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5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6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7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 * 9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 * 8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1:49:36Z</dcterms:created>
  <dc:creator>.</dc:creator>
  <dc:description/>
  <dc:language>en-US</dc:language>
  <cp:lastModifiedBy>Valued Acer Customer</cp:lastModifiedBy>
  <dcterms:modified xsi:type="dcterms:W3CDTF">2010-09-10T18:55:58Z</dcterms:modified>
  <cp:revision>2</cp:revision>
  <dc:subject/>
  <dc:title>2 * 2 =</dc:title>
</cp:coreProperties>
</file>