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3C8-6330-4642-961A-A57EF44C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4B4-7BFD-43F6-BC5A-A049FFFF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33A-B6D1-42F2-B6CF-B327EF26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D83-B0CC-46A3-AD4B-E8A207939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41C-5CA6-4FDE-80FF-5C59FBA1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387-1B19-4203-95BE-E799584A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0BF9-7AFE-4D3B-BE10-55B2577A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DF5-339E-49B1-9020-B680BA7E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A454-AFAA-4DE9-BD54-9DCE6660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9331-902D-47CE-B17A-5856BD75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DE6-365E-4FD8-8BCB-10B55AC8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1C2C-9A3D-4289-92C1-41BF9982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ABBF-7CC8-4DD6-BCF2-0507990E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9B5-E850-43E6-A3B4-E3088F90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A657-A661-4890-997A-71027FC4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C19C-ED4C-402D-9255-08DA31AF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B64E-954D-43EA-A343-0A9CF9A4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781-D6EE-4A02-8199-F5A9C827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CD5-A188-489B-A18C-0999A4A6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45F-77BC-44A4-A5B2-D978934E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866-AA5F-4CEB-9B76-44996E5D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7BF-B47A-45DE-8D2D-0B38307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7CB-9BA4-4D3A-83BA-95EF1B3B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FEB-C076-4518-BFCC-0A6834A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089-AD0A-452B-93CC-3E4885E1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345-2CD4-44E8-92D2-4D1548E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860-A45B-423C-B081-B9D670B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AF3-A965-4F05-8AF6-84063D04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4DB-5CC8-4E93-A772-4A4CCB5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D778-A1A1-40ED-8090-1AC2CDD3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6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1:49:36Z</dcterms:created>
  <dc:creator>.</dc:creator>
  <dc:description/>
  <dc:language>en-US</dc:language>
  <cp:lastModifiedBy>Valued Acer Customer</cp:lastModifiedBy>
  <dcterms:modified xsi:type="dcterms:W3CDTF">2010-09-10T18:55:58Z</dcterms:modified>
  <cp:revision>2</cp:revision>
  <dc:subject/>
  <dc:title>2 * 2 =</dc:title>
</cp:coreProperties>
</file>