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EF66-C821-448B-B0DD-8295F38EB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01EB-CE0F-41C7-94BE-0734F137B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E01F-389A-4A5E-845C-E8EF4FBF5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2DF0-60B6-4237-84A1-761DDC14A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9B8F-7BE7-41AF-A76E-FE2075A95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E0AC-9F20-425C-AC4D-B1B454618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867C-C671-41E1-A7A4-6AC21D569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099C-A670-40AD-A91D-F5BF0C161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1B8F-CBC2-4BD6-AC9C-8009E9841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33B5-D0E5-4AC5-A2B9-373AD4AD9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F97E-4311-4303-B500-D3DA95954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EE44-748D-4109-901E-645DF0EC5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560B-5BE2-44FD-8DD7-BE3C339D4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D75D-4243-4E82-B6B0-5EF96B791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C6D4-DAB7-4092-B776-F11439C47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E54F-F9D4-4B91-B7CF-BFAD574B9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3361-26A0-467F-91AD-CC88B867B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11E8-0915-4C11-AC4A-65932CC4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F84D-534D-49C3-9BE5-180A9C5E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6C3-333B-41FC-8414-BE8CB948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DFB7-8E6D-4E26-BD8C-5905FF55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057F-EF5D-4206-A461-53F2B541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C26B-0853-4D2E-80C6-C14B7E28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7CE-5FAD-4EB1-A3B4-26B71A6F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A3C-B818-48F2-90B6-901328F4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F01-E2FD-43B0-A00E-F9378A75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E62-7B79-4B86-BD68-386CA304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7716-3369-4684-94D8-E2F2594C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57A3-4ECC-4042-BEC1-BD3DD22C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318D-ADE1-4D3C-80AF-F6DC76B29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3 * 5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15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 * 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9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 * 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63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32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72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5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3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7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 * 6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2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6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 * 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3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36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1:49:36Z</dcterms:created>
  <dc:creator>.</dc:creator>
  <dc:description/>
  <dc:language>en-US</dc:language>
  <cp:lastModifiedBy>Valued Acer Customer</cp:lastModifiedBy>
  <dcterms:modified xsi:type="dcterms:W3CDTF">2010-09-10T18:55:58Z</dcterms:modified>
  <cp:revision>2</cp:revision>
  <dc:subject/>
  <dc:title>2 * 2 =</dc:title>
</cp:coreProperties>
</file>