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8A41-9C82-4943-8335-67F1D15DD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9B2-72FB-456D-B7C6-9D260BA44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10A-CBFB-4849-898E-F4551F1DA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9F3D-77EA-475E-9966-54DFD6C50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7212-E7F9-4CD4-B75F-638238D38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55D3-CEDB-4A79-8A80-A1EE650A4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817E-A7F0-47A0-AE60-12F7DD3BF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A910-C672-4403-BBB2-D2F4A03E7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008-DEE1-43E0-A103-E433ED99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B51-C765-4CEC-BE28-B07B751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D8D-DAA3-4376-826E-7180666D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563-6A9C-455D-8A34-CAB9BC5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7A8-8B6E-4E7E-A7D0-B1CB6BFB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84D-FF64-4C8D-ADCF-460C08A4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2BC-ABE0-448D-8CE9-31DF70C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732-DCB5-4F73-BC5C-17EF537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ECD-ACA0-4EDA-A8D7-E834F56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F44-E2A5-475A-8F7E-CAA2792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CC8-65DF-451A-B4EB-2B4BE55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354-7D1E-4245-AC41-5D67CC8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927-0363-475C-8354-5A698657E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africa.jpg"/>
          <p:cNvPicPr/>
          <p:nvPr/>
        </p:nvPicPr>
        <p:blipFill>
          <a:blip r:embed="rId1"/>
          <a:srcRect l="17501" t="0" r="18334" b="0"/>
          <a:stretch/>
        </p:blipFill>
        <p:spPr>
          <a:xfrm>
            <a:off x="1447920" y="16444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214080" y="24768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ntarctica.jpg"/>
          <p:cNvPicPr/>
          <p:nvPr/>
        </p:nvPicPr>
        <p:blipFill>
          <a:blip r:embed="rId1"/>
          <a:srcRect l="9168" t="0" r="9168" b="0"/>
          <a:stretch/>
        </p:blipFill>
        <p:spPr>
          <a:xfrm>
            <a:off x="458640" y="1447920"/>
            <a:ext cx="815184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409480" y="76320"/>
            <a:ext cx="465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ntarct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00100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sia.jpg"/>
          <p:cNvPicPr/>
          <p:nvPr/>
        </p:nvPicPr>
        <p:blipFill>
          <a:blip r:embed="rId1"/>
          <a:srcRect l="16668" t="0" r="15832" b="0"/>
          <a:stretch/>
        </p:blipFill>
        <p:spPr>
          <a:xfrm>
            <a:off x="1295280" y="1595520"/>
            <a:ext cx="6553440" cy="5262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591360" y="24768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s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ustralia.jpg"/>
          <p:cNvPicPr/>
          <p:nvPr/>
        </p:nvPicPr>
        <p:blipFill>
          <a:blip r:embed="rId1"/>
          <a:srcRect l="10835" t="0" r="11668" b="0"/>
          <a:stretch/>
        </p:blipFill>
        <p:spPr>
          <a:xfrm>
            <a:off x="762120" y="1752480"/>
            <a:ext cx="7300800" cy="5105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33680" y="2476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696080" y="6019920"/>
            <a:ext cx="91440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urope.jpg"/>
          <p:cNvPicPr/>
          <p:nvPr/>
        </p:nvPicPr>
        <p:blipFill>
          <a:blip r:embed="rId1"/>
          <a:srcRect l="20834" t="0" r="25833" b="14638"/>
          <a:stretch/>
        </p:blipFill>
        <p:spPr>
          <a:xfrm>
            <a:off x="1523880" y="1828800"/>
            <a:ext cx="5791320" cy="502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823120" y="3240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urop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na.jpg"/>
          <p:cNvPicPr/>
          <p:nvPr/>
        </p:nvPicPr>
        <p:blipFill>
          <a:blip r:embed="rId1"/>
          <a:srcRect l="17501" t="0" r="16668" b="0"/>
          <a:stretch/>
        </p:blipFill>
        <p:spPr>
          <a:xfrm>
            <a:off x="1371600" y="1400040"/>
            <a:ext cx="6629400" cy="545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580040" y="17136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or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a.jpg"/>
          <p:cNvPicPr/>
          <p:nvPr/>
        </p:nvPicPr>
        <p:blipFill>
          <a:blip r:embed="rId1"/>
          <a:srcRect l="15832" t="0" r="16668" b="0"/>
          <a:stretch/>
        </p:blipFill>
        <p:spPr>
          <a:xfrm>
            <a:off x="1143000" y="1413000"/>
            <a:ext cx="6781680" cy="544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427040" y="152280"/>
            <a:ext cx="663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56:51Z</dcterms:created>
  <dc:creator>Valued Acer Customer</dc:creator>
  <dc:description/>
  <dc:language>en-US</dc:language>
  <cp:lastModifiedBy>Valued Acer Customer</cp:lastModifiedBy>
  <dcterms:modified xsi:type="dcterms:W3CDTF">2010-09-09T16:10:52Z</dcterms:modified>
  <cp:revision>6</cp:revision>
  <dc:subject/>
  <dc:title>Slide 1</dc:title>
</cp:coreProperties>
</file>