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DB6-58E3-4D8E-B1FB-B7598313D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281-C273-47EC-BB5A-6AEBE9BD8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6D4-3A16-4B39-8E3A-FB1FB78DF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560-E2A9-4207-8516-FC0444D43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5180-1909-473F-8A45-9CDA7B613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2559-36AA-4C0C-B990-B80542FDF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94D-F02D-4A9D-9E37-9B2FF9976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0BC-EF63-4735-9637-F2EC18F2C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2AB-2A70-4CD1-B359-4DBA2EB6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A10-55E0-4DA6-8A40-953B4E0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06E-AABF-4FBB-BF90-D1290BE7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999-1726-4B0B-A87E-B5EC2F8F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626-BA25-464A-AC2B-2E2A725E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0B4-F1F1-4CA9-8F06-7159CDA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633-56F1-4B0D-98E4-EAA1AAD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A03-4F51-4C28-BEAB-A39F4E8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231-B421-4EEC-B600-45F0BD0D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278-5776-466D-93F6-B703E18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274-5052-4DD3-B077-91A39A8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7DC-E1AC-49AB-B960-7938976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A0A-DD63-41D7-A452-137FBBA23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frica.jpg"/>
          <p:cNvPicPr/>
          <p:nvPr/>
        </p:nvPicPr>
        <p:blipFill>
          <a:blip r:embed="rId1"/>
          <a:srcRect l="17501" t="0" r="18334" b="0"/>
          <a:stretch/>
        </p:blipFill>
        <p:spPr>
          <a:xfrm>
            <a:off x="1447920" y="16444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14080" y="24768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ntarctica.jpg"/>
          <p:cNvPicPr/>
          <p:nvPr/>
        </p:nvPicPr>
        <p:blipFill>
          <a:blip r:embed="rId1"/>
          <a:srcRect l="9168" t="0" r="9168" b="0"/>
          <a:stretch/>
        </p:blipFill>
        <p:spPr>
          <a:xfrm>
            <a:off x="458640" y="1447920"/>
            <a:ext cx="815184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09480" y="76320"/>
            <a:ext cx="465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ntarct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00100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sia.jpg"/>
          <p:cNvPicPr/>
          <p:nvPr/>
        </p:nvPicPr>
        <p:blipFill>
          <a:blip r:embed="rId1"/>
          <a:srcRect l="16668" t="0" r="15832" b="0"/>
          <a:stretch/>
        </p:blipFill>
        <p:spPr>
          <a:xfrm>
            <a:off x="1295280" y="1595520"/>
            <a:ext cx="6553440" cy="526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91360" y="24768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ustralia.jpg"/>
          <p:cNvPicPr/>
          <p:nvPr/>
        </p:nvPicPr>
        <p:blipFill>
          <a:blip r:embed="rId1"/>
          <a:srcRect l="10835" t="0" r="11668" b="0"/>
          <a:stretch/>
        </p:blipFill>
        <p:spPr>
          <a:xfrm>
            <a:off x="762120" y="1752480"/>
            <a:ext cx="7300800" cy="5105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33680" y="2476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9608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urope.jpg"/>
          <p:cNvPicPr/>
          <p:nvPr/>
        </p:nvPicPr>
        <p:blipFill>
          <a:blip r:embed="rId1"/>
          <a:srcRect l="20834" t="0" r="25833" b="14638"/>
          <a:stretch/>
        </p:blipFill>
        <p:spPr>
          <a:xfrm>
            <a:off x="1523880" y="1828800"/>
            <a:ext cx="5791320" cy="502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823120" y="3240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na.jpg"/>
          <p:cNvPicPr/>
          <p:nvPr/>
        </p:nvPicPr>
        <p:blipFill>
          <a:blip r:embed="rId1"/>
          <a:srcRect l="17501" t="0" r="16668" b="0"/>
          <a:stretch/>
        </p:blipFill>
        <p:spPr>
          <a:xfrm>
            <a:off x="1371600" y="1400040"/>
            <a:ext cx="6629400" cy="545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580040" y="17136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or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a.jpg"/>
          <p:cNvPicPr/>
          <p:nvPr/>
        </p:nvPicPr>
        <p:blipFill>
          <a:blip r:embed="rId1"/>
          <a:srcRect l="15832" t="0" r="16668" b="0"/>
          <a:stretch/>
        </p:blipFill>
        <p:spPr>
          <a:xfrm>
            <a:off x="1143000" y="1413000"/>
            <a:ext cx="6781680" cy="544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427040" y="152280"/>
            <a:ext cx="663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56:51Z</dcterms:created>
  <dc:creator>Valued Acer Customer</dc:creator>
  <dc:description/>
  <dc:language>en-US</dc:language>
  <cp:lastModifiedBy>Valued Acer Customer</cp:lastModifiedBy>
  <dcterms:modified xsi:type="dcterms:W3CDTF">2010-09-09T16:10:52Z</dcterms:modified>
  <cp:revision>6</cp:revision>
  <dc:subject/>
  <dc:title>Slide 1</dc:title>
</cp:coreProperties>
</file>