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AC0D-E6C5-4546-A47C-0C002DF1B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9AA6-C500-45F7-A55E-5AB2867A7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7B9-1A6F-45EC-B208-5F52572EA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A088-1760-4510-AE08-9EED3A8B4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42B4-CB49-4848-A2D2-FE3E7BB50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5A11-43AE-44E5-92A7-8F4C2EEF3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9F9-0958-4558-8296-A09F6B05A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0CAD-0D58-400B-A1D1-FB767859F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ACA-2E21-4AE4-8A86-8608EA43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4FE-43F5-4C63-80FB-85ADC80A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919-9B63-4845-99DF-7FB7B320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79F-D246-498E-8637-5D7C8074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38D-52E1-4DC5-8AFC-1DDCC91B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9C2-F4CC-49E8-88CE-A2F82B29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724-E64F-48D6-B48C-61684BEE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9FF-3623-4BF4-8D57-8AE1C64E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5C9-D79D-4647-8D11-E01C5339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147-F522-456C-BBE0-D8E9B1A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EB7-0F48-4351-9C64-8B8FC800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970-8236-4931-B5EB-5B2EFD6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16B-CA46-44A0-B59B-DD1153AE7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africa.jpg"/>
          <p:cNvPicPr/>
          <p:nvPr/>
        </p:nvPicPr>
        <p:blipFill>
          <a:blip r:embed="rId1"/>
          <a:srcRect l="17501" t="0" r="18334" b="0"/>
          <a:stretch/>
        </p:blipFill>
        <p:spPr>
          <a:xfrm>
            <a:off x="1447920" y="1644480"/>
            <a:ext cx="6172200" cy="5213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214080" y="24768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ntarctica.jpg"/>
          <p:cNvPicPr/>
          <p:nvPr/>
        </p:nvPicPr>
        <p:blipFill>
          <a:blip r:embed="rId1"/>
          <a:srcRect l="9168" t="0" r="9168" b="0"/>
          <a:stretch/>
        </p:blipFill>
        <p:spPr>
          <a:xfrm>
            <a:off x="458640" y="1447920"/>
            <a:ext cx="815184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409480" y="76320"/>
            <a:ext cx="465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ntarct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00100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sia.jpg"/>
          <p:cNvPicPr/>
          <p:nvPr/>
        </p:nvPicPr>
        <p:blipFill>
          <a:blip r:embed="rId1"/>
          <a:srcRect l="16668" t="0" r="15832" b="0"/>
          <a:stretch/>
        </p:blipFill>
        <p:spPr>
          <a:xfrm>
            <a:off x="1295280" y="1595520"/>
            <a:ext cx="6553440" cy="526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591360" y="247680"/>
            <a:ext cx="21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ustralia.jpg"/>
          <p:cNvPicPr/>
          <p:nvPr/>
        </p:nvPicPr>
        <p:blipFill>
          <a:blip r:embed="rId1"/>
          <a:srcRect l="10835" t="0" r="11668" b="0"/>
          <a:stretch/>
        </p:blipFill>
        <p:spPr>
          <a:xfrm>
            <a:off x="762120" y="1752480"/>
            <a:ext cx="7300800" cy="5105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2533680" y="24768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9608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europe.jpg"/>
          <p:cNvPicPr/>
          <p:nvPr/>
        </p:nvPicPr>
        <p:blipFill>
          <a:blip r:embed="rId1"/>
          <a:srcRect l="20834" t="0" r="25833" b="14638"/>
          <a:stretch/>
        </p:blipFill>
        <p:spPr>
          <a:xfrm>
            <a:off x="1523880" y="1828800"/>
            <a:ext cx="5791320" cy="5024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823120" y="32400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na.jpg"/>
          <p:cNvPicPr/>
          <p:nvPr/>
        </p:nvPicPr>
        <p:blipFill>
          <a:blip r:embed="rId1"/>
          <a:srcRect l="17501" t="0" r="16668" b="0"/>
          <a:stretch/>
        </p:blipFill>
        <p:spPr>
          <a:xfrm>
            <a:off x="1371600" y="1400040"/>
            <a:ext cx="6629400" cy="5457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580040" y="171360"/>
            <a:ext cx="64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Nor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a.jpg"/>
          <p:cNvPicPr/>
          <p:nvPr/>
        </p:nvPicPr>
        <p:blipFill>
          <a:blip r:embed="rId1"/>
          <a:srcRect l="15832" t="0" r="16668" b="0"/>
          <a:stretch/>
        </p:blipFill>
        <p:spPr>
          <a:xfrm>
            <a:off x="1143000" y="1413000"/>
            <a:ext cx="6781680" cy="544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427040" y="152280"/>
            <a:ext cx="663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56:51Z</dcterms:created>
  <dc:creator>Valued Acer Customer</dc:creator>
  <dc:description/>
  <dc:language>en-US</dc:language>
  <cp:lastModifiedBy>Valued Acer Customer</cp:lastModifiedBy>
  <dcterms:modified xsi:type="dcterms:W3CDTF">2010-09-09T16:10:52Z</dcterms:modified>
  <cp:revision>6</cp:revision>
  <dc:subject/>
  <dc:title>Slide 1</dc:title>
</cp:coreProperties>
</file>