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E6AD-8568-4E65-A6CF-47EE68E2A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EFF7-60F3-4123-A1C3-F5314F032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056E-C257-4BC4-89A6-DFC1DB8F9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C6CE-FCB5-4E13-854A-D14FCF5A5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9BD2-DFDD-44F1-B87A-761832F7D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3875-923A-4FD3-BAE9-227A35129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B87E-9DCC-4FDD-A4F5-C632F17FA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6DE2-5B13-4C6B-852D-C832FC5E8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5C0-1624-4629-8501-5CF244CC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D8E-840D-4603-A333-4E98EC54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7B4-6946-4C3D-92A8-3E81C271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F35-0596-4E61-AF85-B1E9CDC6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ECB-2042-4B46-B3EA-36B0C77C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03F-E162-4823-8480-49641DA1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56B-37F6-4669-85F0-1C82C980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F2A-B2C3-4AC8-B25A-0C510ECC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E7F-5E83-4F36-8AC4-2E745751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C13-BADB-4DB0-AFD0-429E272A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75B-E213-43A1-89F3-2C5F3AB4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86E-8EA7-46A9-90E8-A6C48545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15C2-BDFF-45C8-A219-71C8F8DFB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africa.jpg"/>
          <p:cNvPicPr/>
          <p:nvPr/>
        </p:nvPicPr>
        <p:blipFill>
          <a:blip r:embed="rId1"/>
          <a:srcRect l="17501" t="0" r="18334" b="0"/>
          <a:stretch/>
        </p:blipFill>
        <p:spPr>
          <a:xfrm>
            <a:off x="1447920" y="1644480"/>
            <a:ext cx="6172200" cy="5213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3214080" y="247680"/>
            <a:ext cx="27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ntarctica.jpg"/>
          <p:cNvPicPr/>
          <p:nvPr/>
        </p:nvPicPr>
        <p:blipFill>
          <a:blip r:embed="rId1"/>
          <a:srcRect l="9168" t="0" r="9168" b="0"/>
          <a:stretch/>
        </p:blipFill>
        <p:spPr>
          <a:xfrm>
            <a:off x="458640" y="1447920"/>
            <a:ext cx="815184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409480" y="76320"/>
            <a:ext cx="465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ntarct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001000" y="6019920"/>
            <a:ext cx="91440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sia.jpg"/>
          <p:cNvPicPr/>
          <p:nvPr/>
        </p:nvPicPr>
        <p:blipFill>
          <a:blip r:embed="rId1"/>
          <a:srcRect l="16668" t="0" r="15832" b="0"/>
          <a:stretch/>
        </p:blipFill>
        <p:spPr>
          <a:xfrm>
            <a:off x="1295280" y="1595520"/>
            <a:ext cx="6553440" cy="5262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591360" y="247680"/>
            <a:ext cx="21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s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ustralia.jpg"/>
          <p:cNvPicPr/>
          <p:nvPr/>
        </p:nvPicPr>
        <p:blipFill>
          <a:blip r:embed="rId1"/>
          <a:srcRect l="10835" t="0" r="11668" b="0"/>
          <a:stretch/>
        </p:blipFill>
        <p:spPr>
          <a:xfrm>
            <a:off x="762120" y="1752480"/>
            <a:ext cx="7300800" cy="5105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2533680" y="24768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ustral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696080" y="6019920"/>
            <a:ext cx="91440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europe.jpg"/>
          <p:cNvPicPr/>
          <p:nvPr/>
        </p:nvPicPr>
        <p:blipFill>
          <a:blip r:embed="rId1"/>
          <a:srcRect l="20834" t="0" r="25833" b="14638"/>
          <a:stretch/>
        </p:blipFill>
        <p:spPr>
          <a:xfrm>
            <a:off x="1523880" y="1828800"/>
            <a:ext cx="5791320" cy="5024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823120" y="324000"/>
            <a:ext cx="33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Europ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na.jpg"/>
          <p:cNvPicPr/>
          <p:nvPr/>
        </p:nvPicPr>
        <p:blipFill>
          <a:blip r:embed="rId1"/>
          <a:srcRect l="17501" t="0" r="16668" b="0"/>
          <a:stretch/>
        </p:blipFill>
        <p:spPr>
          <a:xfrm>
            <a:off x="1371600" y="1400040"/>
            <a:ext cx="6629400" cy="5457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580040" y="171360"/>
            <a:ext cx="64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North Ame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a.jpg"/>
          <p:cNvPicPr/>
          <p:nvPr/>
        </p:nvPicPr>
        <p:blipFill>
          <a:blip r:embed="rId1"/>
          <a:srcRect l="15832" t="0" r="16668" b="0"/>
          <a:stretch/>
        </p:blipFill>
        <p:spPr>
          <a:xfrm>
            <a:off x="1143000" y="1413000"/>
            <a:ext cx="6781680" cy="5445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427040" y="152280"/>
            <a:ext cx="663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South Ame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56:51Z</dcterms:created>
  <dc:creator>Valued Acer Customer</dc:creator>
  <dc:description/>
  <dc:language>en-US</dc:language>
  <cp:lastModifiedBy>Valued Acer Customer</cp:lastModifiedBy>
  <dcterms:modified xsi:type="dcterms:W3CDTF">2010-09-09T16:10:52Z</dcterms:modified>
  <cp:revision>6</cp:revision>
  <dc:subject/>
  <dc:title>Slide 1</dc:title>
</cp:coreProperties>
</file>